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5E5F-4781-4B6B-8475-AAF21632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F5EB-8805-4621-A89B-ABA70183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019-FF03-45A5-BFB4-E9E1A99A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7F73-FE78-4451-9C22-5C7E46E5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4B21-CFCB-4193-90A3-3672FE5E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34A-4621-48D1-867A-3EE14750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8DD-800E-482D-AB58-2E879BDF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445-D332-4EB4-9D33-AF725817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360" y="609120"/>
            <a:ext cx="6765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9D7F-57AF-42D8-AC6F-1CDD08EC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CDF-9889-4C94-9AD8-092D8B08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D9B-0166-4827-BB30-6E2A46AD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53E-4250-4AF9-951C-26AC9852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1010-A719-4321-B134-721D252AC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5905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ECDL</a:t>
            </a:r>
            <a:br>
              <a:rPr sz="4400"/>
            </a:b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Answer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2491920"/>
            <a:ext cx="6049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8720" y="314172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8720" y="40068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8720" y="580716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08:15:28Z</dcterms:created>
  <dc:creator>European Computer Driving Licence Foundation Ltd.</dc:creator>
  <dc:description/>
  <dc:language>en-US</dc:language>
  <cp:lastModifiedBy>stbrown</cp:lastModifiedBy>
  <dcterms:modified xsi:type="dcterms:W3CDTF">2009-04-30T13:37:15Z</dcterms:modified>
  <cp:revision>60</cp:revision>
  <dc:subject/>
  <dc:title>Module 6 Answer File 6.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72986589</vt:r8>
  </property>
  <property fmtid="{D5CDD505-2E9C-101B-9397-08002B2CF9AE}" pid="3" name="_AuthorEmail">
    <vt:lpwstr>mavromat@the.forthnet.gr</vt:lpwstr>
  </property>
  <property fmtid="{D5CDD505-2E9C-101B-9397-08002B2CF9AE}" pid="4" name="_AuthorEmailDisplayName">
    <vt:lpwstr>Antonis S. Mavromatis</vt:lpwstr>
  </property>
  <property fmtid="{D5CDD505-2E9C-101B-9397-08002B2CF9AE}" pid="5" name="_EmailSubject">
    <vt:lpwstr>AM6 Theoritical questions - update...</vt:lpwstr>
  </property>
  <property fmtid="{D5CDD505-2E9C-101B-9397-08002B2CF9AE}" pid="6" name="_PreviousAdHocReviewCycleID">
    <vt:r8>8666860</vt:r8>
  </property>
  <property fmtid="{D5CDD505-2E9C-101B-9397-08002B2CF9AE}" pid="7" name="_ReviewingToolsShownOnce">
    <vt:lpwstr/>
  </property>
</Properties>
</file>