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63D-45E9-4F22-B71F-62DBD51D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C8C-814C-468D-9A52-EEA53C4B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345-30BB-4115-A61F-6F8DF699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36A-C56E-483A-BDDE-02995162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6CD-E3F4-40A3-B34D-37A1C53E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C54-B2EC-45FB-A72A-3AC74A96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201-8889-43E0-B2F6-9FB9A18D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84D-52E7-41B4-807C-7A6AB8FC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4CF5-342E-4097-A3BB-0F6D24E1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83A-C82A-45D8-A1EA-8D3795A1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FA6-1F4B-4EE7-AB9C-E647E799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008-9290-4790-A87C-BCFF5534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8EFD-813F-4975-AC7B-909E6E13D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Varie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e Market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Produ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BEAUTY OF K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BLENHEIM 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CLAYGATE PEAR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D'ARCY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LAXTON'S 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roseAntiq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roseAntique"/>
                <a:ea typeface="Times New Roman"/>
              </a:rPr>
              <a:t>RIBSTON'S PIP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1:30:34Z</dcterms:created>
  <dc:creator>European Computer Driving Licence Foundation Ltd.</dc:creator>
  <dc:description/>
  <dc:language>en-US</dc:language>
  <cp:lastModifiedBy>ECDL Foundation</cp:lastModifiedBy>
  <dcterms:modified xsi:type="dcterms:W3CDTF">2008-05-28T13:25:35Z</dcterms:modified>
  <cp:revision>3</cp:revision>
  <dc:subject/>
  <dc:title>Apple Varieties</dc:title>
</cp:coreProperties>
</file>