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E29-930E-4F05-8EEC-7227E50A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4F6-F687-45C3-A28E-136788C6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03F-4D38-4FCD-A7CA-6BDCF589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D3D-D8AF-458F-9646-8A4EFF43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816-9810-4187-917A-F56F64E7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AC2-DF90-4B36-8827-D0289C94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C09-271A-4872-8EEB-64DDA872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0EA-5376-43FE-9C0B-C1078E50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BDD-A801-4C62-B923-5F7DED1F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1D8-4E00-4919-9AAA-BB66D92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AE3-F87D-4909-899C-346E4DED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9CA-30FB-4825-A867-EBE6DD09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D959-0E25-4426-B601-F0EFAEAD9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0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CDL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Answer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2491920"/>
            <a:ext cx="6049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stbrown</cp:lastModifiedBy>
  <dcterms:modified xsi:type="dcterms:W3CDTF">2009-04-30T13:37:15Z</dcterms:modified>
  <cp:revision>60</cp:revision>
  <dc:subject/>
  <dc:title>Module 6 Answer File 6.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