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7C7-9A78-4BA3-9FEC-260A5444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3F8-C90B-4349-8B0F-AE0D1D8F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180-4FF7-4EF7-BAA4-0707A90D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9FC-22C3-41BD-88F4-61DCF398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893-6523-4175-9E3E-F474F50C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CFF-336C-48CB-B5E4-3B78F726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AAA-E3B6-4994-A853-4F818963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13E-7586-483D-8F36-30BB9B5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6C9-EEBA-48AA-A8C0-2566D357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0F6-E915-4CC8-96E9-A57D90A0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939-8255-4F84-A56F-6DF2F68D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2F4-3A29-4716-BBB5-9FF26CE5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7A80-EA3F-4C13-8646-86C470C5B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pple trees sold nowadays are made up from two quite separate parts, which together form the complete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ut apple image."/>
          <p:cNvPicPr/>
          <p:nvPr/>
        </p:nvPicPr>
        <p:blipFill>
          <a:blip r:embed="rId1"/>
          <a:stretch/>
        </p:blipFill>
        <p:spPr>
          <a:xfrm>
            <a:off x="7451640" y="4869000"/>
            <a:ext cx="14461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3:38:45Z</dcterms:created>
  <dc:creator>European Computer Driving Licence Foundation Ltd.</dc:creator>
  <dc:description/>
  <dc:language>en-US</dc:language>
  <cp:lastModifiedBy>ECDL Foundation</cp:lastModifiedBy>
  <dcterms:modified xsi:type="dcterms:W3CDTF">2008-06-03T17:14:33Z</dcterms:modified>
  <cp:revision>6</cp:revision>
  <dc:subject/>
  <dc:title>Slide 1</dc:title>
</cp:coreProperties>
</file>