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80A7-BEEF-4CE0-938B-7F9878B4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FCFA-5045-44D9-9653-50EEA96E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CBA9-29EE-411A-9386-188C736B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5A59-AAFE-45B7-AA17-51E3436C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D858-69B0-4CE4-B02E-46D6B19C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33C9-B846-4270-914B-26F02D3D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54EC-A01E-44EF-80BB-07F2174B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8496-BE46-4A3E-BE43-BFCD230E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3E5B-7DD1-4981-921B-46804FE7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2748-1D1A-446C-A730-7FEF9DA2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3FEA-0078-4617-A918-3FE78297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4C60-AC6F-4D95-95F4-659CEB74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D00A-EA0D-424E-8AC6-44191746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7CD7-4FB0-4B0F-907F-1B77C45A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F7D9-4931-43A0-9167-FEDCED8B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C179-4CE0-4C67-819E-A9D3E183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8EE6-E0D3-473D-B1E8-1E187C1A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75B0-F823-482C-B6BB-0D22CCEE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B93B-2FCA-47E4-8FD6-C407D6C7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2321-A1F2-4D42-BA2F-9D8E26AC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DA9E-18DF-4420-84CE-A52075D9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5150-1FD6-4E38-89B6-0C19F09D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1F42-D1F9-4961-BFB2-CAB8E155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F7F6-024E-482E-A9AE-5A3F50C2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B211-241E-493A-82FD-D328B4C5D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5389-A53F-498A-AB21-08F794D3B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The Apples of our Is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ng with App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e 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reduce cholesterol and aids di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are virtually fat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are rich in Potas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es have 8-14% natural frut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e Marketing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31640" y="1916280"/>
            <a:ext cx="8208360" cy="4132080"/>
            <a:chOff x="431640" y="1916280"/>
            <a:chExt cx="8208360" cy="4132080"/>
          </a:xfrm>
        </p:grpSpPr>
        <p:cxnSp>
          <p:nvCxnSpPr>
            <p:cNvPr id="84" name="_s4110"/>
            <p:cNvCxnSpPr>
              <a:stCxn id="85" idx="0"/>
              <a:endCxn id="86" idx="2"/>
            </p:cNvCxnSpPr>
            <p:nvPr/>
          </p:nvCxnSpPr>
          <p:spPr>
            <a:xfrm flipV="1" rot="16200000">
              <a:off x="5558760" y="2544840"/>
              <a:ext cx="826920" cy="2873520"/>
            </a:xfrm>
            <a:prstGeom prst="bentConnector3">
              <a:avLst>
                <a:gd name="adj1" fmla="val 138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4109"/>
            <p:cNvCxnSpPr>
              <a:stCxn id="88" idx="0"/>
              <a:endCxn id="86" idx="2"/>
            </p:cNvCxnSpPr>
            <p:nvPr/>
          </p:nvCxnSpPr>
          <p:spPr>
            <a:xfrm flipV="1">
              <a:off x="4536000" y="3568320"/>
              <a:ext cx="3600" cy="82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4108"/>
            <p:cNvCxnSpPr>
              <a:stCxn id="90" idx="0"/>
              <a:endCxn id="86" idx="2"/>
            </p:cNvCxnSpPr>
            <p:nvPr/>
          </p:nvCxnSpPr>
          <p:spPr>
            <a:xfrm flipH="1" flipV="1" rot="5400000">
              <a:off x="2685960" y="2545200"/>
              <a:ext cx="826920" cy="2873520"/>
            </a:xfrm>
            <a:prstGeom prst="bentConnector3">
              <a:avLst>
                <a:gd name="adj1" fmla="val 138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6" name="_s4104"/>
            <p:cNvSpPr/>
            <p:nvPr/>
          </p:nvSpPr>
          <p:spPr>
            <a:xfrm>
              <a:off x="3304440" y="1916280"/>
              <a:ext cx="2462400" cy="1652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en Grah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ie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4105"/>
            <p:cNvSpPr/>
            <p:nvPr/>
          </p:nvSpPr>
          <p:spPr>
            <a:xfrm>
              <a:off x="431640" y="4395600"/>
              <a:ext cx="2462400" cy="1652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Hannah Ston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4106"/>
            <p:cNvSpPr/>
            <p:nvPr/>
          </p:nvSpPr>
          <p:spPr>
            <a:xfrm>
              <a:off x="3304440" y="4395600"/>
              <a:ext cx="2462400" cy="1652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Ella William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4107"/>
            <p:cNvSpPr/>
            <p:nvPr/>
          </p:nvSpPr>
          <p:spPr>
            <a:xfrm>
              <a:off x="6177600" y="4395600"/>
              <a:ext cx="2462400" cy="1652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John Brown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Finan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e Var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47280" y="1599840"/>
            <a:ext cx="713916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NS EVERL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NGTON PIP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UTY OF K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ENHEIM 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YGATE PEAR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'ARCY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XTON'S FORT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een Ap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Known as </a:t>
            </a:r>
            <a:r>
              <a:rPr b="1" lang="en-IE" sz="3200" spc="-1" strike="noStrike">
                <a:solidFill>
                  <a:srgbClr val="808080"/>
                </a:solidFill>
                <a:latin typeface="Arial"/>
              </a:rPr>
              <a:t>Granny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Originated in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Green and grey apple image"/>
          <p:cNvPicPr/>
          <p:nvPr/>
        </p:nvPicPr>
        <p:blipFill>
          <a:blip r:embed="rId1"/>
          <a:stretch/>
        </p:blipFill>
        <p:spPr>
          <a:xfrm>
            <a:off x="5724360" y="2492280"/>
            <a:ext cx="19130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pple a d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s the doctor a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580000" y="5229360"/>
            <a:ext cx="1932120" cy="107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Green Ap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04240" y="5373720"/>
            <a:ext cx="1931760" cy="1079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84720" y="5373720"/>
            <a:ext cx="1931760" cy="1079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Buying Ap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reee from blemi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nbroken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i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60840" y="1916280"/>
            <a:ext cx="3024360" cy="3889080"/>
          </a:xfrm>
          <a:custGeom>
            <a:avLst/>
            <a:gdLst>
              <a:gd name="textAreaLeft" fmla="*/ 405000 w 3024360"/>
              <a:gd name="textAreaRight" fmla="*/ 2619360 w 3024360"/>
              <a:gd name="textAreaTop" fmla="*/ 680400 h 3889080"/>
              <a:gd name="textAreaBottom" fmla="*/ 2819520 h 38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Check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bu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pple Production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urrent Production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21:35:22Z</dcterms:created>
  <dc:creator>European Computer Driving Licence Foundation Ltd.</dc:creator>
  <dc:description/>
  <dc:language>en-US</dc:language>
  <cp:lastModifiedBy>stbrown</cp:lastModifiedBy>
  <dcterms:modified xsi:type="dcterms:W3CDTF">2009-07-28T15:53:21Z</dcterms:modified>
  <cp:revision>54</cp:revision>
  <dc:subject/>
  <dc:title>THE APPLES OF OUR ISLES</dc:title>
</cp:coreProperties>
</file>