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Georgia"/>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AA82-249D-4C0E-AEA8-9A5F3A7328DC}" type="slidenum">
              <a:rPr b="0" lang="en-GB" sz="1200" spc="-1" strike="noStrike">
                <a:solidFill>
                  <a:srgbClr val="000000"/>
                </a:solidFill>
                <a:latin typeface="Calibri"/>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4D49-9AD2-4A41-9F6E-5CA8549FA75C}" type="slidenum">
              <a:rPr b="0" lang="en-GB"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53EE-ADD8-4E72-9A9A-DA2269259D79}" type="slidenum">
              <a:rPr b="0" lang="en-GB"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6E306-D72C-4C84-898A-59970ECCB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FFB7C-02FF-462A-9013-F07A66C13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F01E00F-FE00-43AB-BABD-245D66584D5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B430E60-831F-4CD3-8AAC-8F5525EF340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6237A47-1A98-4269-972C-52921126C2E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DE96BAA-7A7A-4A03-ADE8-390046C4D21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210F9A3-BD4D-4E73-A2DD-4807A375432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3FBC2A2-3DFE-4348-9819-39C57B79C08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DA81BA4-CC94-41F2-A510-96071A0C86F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A6EC48C-21EF-4257-A2D8-4A0A4188EED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2F82B0B-AC7D-46D1-92DA-0CBC44808C8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90808BD-E3B7-45E2-A610-3D6494B66C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8A387-1748-49E3-826B-C0E354EAF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A691CA0-91B8-4B38-939B-2950748DC6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ADB71CF-91CD-42E7-9244-72AD60BE60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03B3F87-BCDC-40AC-AC18-E5AB299891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46A2731-0569-4779-BED2-40B3F3A978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7F928ED-CF2C-433D-A76B-DB67D07AB5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7434EF0-62A0-45BF-B5E4-D30B386B26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ABBF5C5-F97F-42FC-A602-D5833E7F57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D5B538A-3690-44D6-8A6D-587A313F60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34E11E4-C1CB-41DD-815B-D584F3110F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C1C4179-BB1E-40C9-B7CB-9E07A2411F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9C4CB-8329-4ECD-A3C2-90BEA0B8E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FA8980B-09F2-4CBC-BEBA-BDF65F6688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8AEF67-755D-4EF0-91FA-D5460DF048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495317-9471-427F-8D24-D8C3FD5C24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763A81-A6B6-4A3E-B660-45A6402771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D86943-98E2-4A9A-ACC9-6AEE6AE2CE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385CC5-1DC6-4A8A-A90F-E7E5403D8A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78AD85-DC57-4FC1-A295-14C9414FB8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F652A9-3BE6-4E3B-9C56-19F3944E84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C02B2E-8F11-4F2F-BC54-649F005E11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3ECA93-C7A1-493D-96FA-379827D670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B5C18-7E1A-491B-8526-72364086B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1A86F1-2E76-48EC-93A6-F5443810A4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F32F65-A8E7-46C4-AD34-F24F95BC3F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C96C68-FC5A-43EE-B517-5042829AD6F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C54B05C-C655-4E2A-BBEF-EC42582984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8D7CBB6-8796-4B30-881B-92D1DA1341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41BEBFB-EE8E-438B-844C-FB9B328EE1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B899975-2103-4D4E-B631-A4AFA37476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E04AE7F-E7A2-47C2-9663-37EAF28148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CBA6CEE-AF3D-42A8-86E6-7D12484E32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7FEC571-7DB5-45BA-9C3E-8C5177BA11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72758-CCDC-47EF-84DF-406DA9A10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30004BA-C2CC-4301-8CAB-04AF598E42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D7B5E8C-3C5D-45A7-B0AE-458BEF32EF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D89C001-6014-4880-BA7D-8ED3EF6C51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3BDE7E2-343B-438D-8AA8-3D670F3481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73D14CA-52FF-40CC-9C6A-D5470D67F9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E67A5-4AA3-4E61-97A1-1FC093EDC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B1A24-EF43-4B4D-A412-1B09FDA0A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858C0-D85C-43DF-A9B5-A5C7FDCD3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8D0D5-EF52-43D3-926E-54236C979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6CBC8-C0EB-4317-8EA8-2C49D8C94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24666-3560-4A77-97D6-B3499CAD3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62744-E5F9-4480-9565-FC8E7DFDE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E55A5-30D4-40CC-8475-BFF1B9B7D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8A53A-B689-4A4E-9D9D-34CF38579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BC918-F2F9-41D0-B479-96C880134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0EE10-514C-4A82-9C2B-9788F18A5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5F0136-A5D2-4B28-851B-E0F3C04AB5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5326AC-2E53-4B12-9B88-AB1B96FBA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9CD6CF-1308-41C5-8039-6C7D8480DF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A7D43D-2C77-4913-A676-459C7CB010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F891DF-10BE-4034-82B5-2B186A76ED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7E970-4C0D-42AB-9756-AC770C15F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FFE921-D0BE-457C-BCBD-B147568FC6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EDF107-D711-4CD7-B627-DAFD55E55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B84B5D-4B16-4475-8D1C-DC9C94BE90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32E8C-60E1-4318-91F0-28C00E09B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8EDB9A-1149-4DCA-BC54-D6213FB8DE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0F5FDD-05EF-43FA-8714-70146F82C5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659AE5-2DD7-44CE-89E3-7C37AA3DFA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20AAF51-3A46-4EEC-8D1D-66D8292CB80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EC50287-642F-4F01-BDE2-E503D735E6D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1F2081B-AA30-4624-BB04-012F6CB7E5F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BE7ED-4735-4ECB-8EF0-32C80BDE8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2111C76-E794-448A-A01B-C2C24EB9764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FEDD4E7-5CF4-45AA-B2FF-E297923642F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37710B8-7A53-4482-94A5-8BA873EED50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6F0F9FE-3FDE-4CBD-A71D-A04412600E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B7CA5DF-9CE6-4218-A442-D77AC7C7886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A5988BE-57D3-4131-9F9A-7064782D3E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0E73D0E-9279-4E38-8DC5-185E479CD7D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3FE9C8B-A7A3-4EE7-8B7A-7A38B96270A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C0CD5C9-61C9-4D41-A4E5-86EDBCA6BFF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197304-1629-45B2-9259-30F57FA3A6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2F733-5EA8-45B5-A676-AA8552E02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5BBDA1-8D8F-4DA6-9EEB-4994D4A97B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9FED39-E635-401D-983B-FB172C9244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808AE9-62E5-4076-B225-D22D17F166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504C07-0ED3-48B4-95D5-28EE81D220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BC9ACB-4CCD-4DC3-B046-5565813A97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6CE730-78E8-47A6-B19D-F69BC5D78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43264-C8F2-48CA-95B3-87FEFCBE6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C5D11B-16D8-4022-A91F-80F028E04C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9610EB-69E1-4A0A-8D51-D95CCB3D56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876142-B7E7-41EF-8F4D-C145A41688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67F0B-E2CA-425C-B765-5DFC4E21D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85B556-F660-44AF-9C82-01976B4802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7E876F-A20F-472D-AEBA-5C485027A8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AB1C74-2BC5-4099-B0CB-67F60A7FD3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67CA18-52A6-43A0-8434-29E99395F8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758085-37CD-4D7D-B727-5A099D9D12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4271BF-C248-4C32-8DF5-79E1B8ADBF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EC84AB-A909-44D0-8EF5-344922AFF6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DB210E-4E82-48FA-A552-68CA71D962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03BFE5-4867-405E-9B27-D8A48F03F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D821FE-4217-455D-A9BF-9B5004D2E6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FE2CC-B964-49E5-A05B-E66B70967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55B5ED-C151-4981-AEAC-5F2B2AE0E5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10BDDC-0A83-4FCA-98A8-DAC354F207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46CD04-B2A4-4A37-AFD0-17E3E492C0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C85BB9-09C6-4103-B172-6A2C75F4DA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52B8DA-B17A-4D04-8FD8-BF03B4E540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869B11-300B-4EED-97D2-8C717BF91B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DBAB21-4397-4C78-A46B-0D3DF765B7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66AAE8-E4C5-4B51-9F7D-C91EF6A14A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9407C1-372A-41EA-949A-F941648AA3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EFA740-1EAD-4FAB-9A26-F800519D20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1222D-DA5C-49D0-9DF5-787CE07DA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0D24C-1A5C-4DF7-A2D7-A9B0677759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3B4037-B5F5-4253-90E3-EFD57CBE95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9D5492-CFCD-4EC5-8A49-0D0B68B986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FC4437-60B8-4C46-9AC5-2839367B14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6E4904-43E1-4C70-B982-64FB115E79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1DF081-47F9-4638-8F49-FB7EB732E8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D6D262-A522-437A-AAD1-47673CF725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84F8C1-BCC2-41CF-8D4B-6CEF35BA2F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70AE15-91A8-425D-AF86-D062584BAD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9F3FDF-0942-4F97-B009-9B0EBFE21E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095E8-88BC-4716-969A-B5E7733E1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13DC0F-9C03-47B4-A321-AE4DFAD69B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CAFF92-3E1F-47B4-87B5-CD52260733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43206A-2156-421D-809E-F76DC462F0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EBBF4D-6929-4F36-92C7-5B2B6C2812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424FC9-D111-4D85-9D8B-BAF1C161AC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3C3973-4D31-479E-8FCB-5983DCD1A5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E1C71C-7D19-4966-8D8D-DA5EEBFC4D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0388C26-23DD-4AFD-82FE-E8A52CBF969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C0AF5D8-18EA-4F0E-B4E9-C8C39185DE3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3B751A8-8C23-481F-B157-03FAD08CC98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CE3D-32A7-434E-8B78-2986A83A0F5F}"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F75D-DD6F-412D-A074-92C40CD5D0A6}"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06EF-145F-48B0-85B1-97F7D5560A5F}"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2617-D17E-4DCA-B401-85F2EC97B2CF}"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Oval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13"/>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A88B-B756-457F-870B-64434E9FE484}"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DAF7-7B0A-455C-9091-19CF15EB4BCD}"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B115-D9C8-425A-B058-97A6C523154A}"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DDEB-375D-4426-AC1A-3E04BC94165F}"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12"/>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1CA8-38E8-43DB-B58C-40C718967E9F}"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4DF98-F6E3-496B-AFCD-1EAF2C26431A}"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973E-D285-419D-8CD7-729B25F1BA9B}" type="slidenum">
              <a:rPr b="0" lang="en-GB" sz="1600" spc="-1" strike="noStrike">
                <a:solidFill>
                  <a:srgbClr val="ffffff"/>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2299-305C-419A-BB91-7D268F4DFAD2}"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b9899"/>
                </a:solidFill>
                <a:latin typeface="Arial"/>
              </a:rPr>
              <a:t>Summerville Training Timeline</a:t>
            </a:r>
            <a:endParaRPr b="0" lang="en-US" sz="3300" spc="-1" strike="noStrike">
              <a:solidFill>
                <a:srgbClr val="7b9899"/>
              </a:solidFill>
              <a:latin typeface="Georgia"/>
            </a:endParaRPr>
          </a:p>
        </p:txBody>
      </p:sp>
      <p:sp>
        <p:nvSpPr>
          <p:cNvPr id="6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y 1 - As part of the experience participants will explore the role of the technology in the workplace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y 2 - We will provide further information on using each of the technologie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y 3 – Role play, facilitation skills and software framwork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b9899"/>
                </a:solidFill>
                <a:latin typeface="Arial"/>
              </a:rPr>
              <a:t>Client Evaluation</a:t>
            </a:r>
            <a:endParaRPr b="0" lang="en-US" sz="3300" spc="-1" strike="noStrike">
              <a:solidFill>
                <a:srgbClr val="7b9899"/>
              </a:solidFill>
              <a:latin typeface="Georgia"/>
            </a:endParaRPr>
          </a:p>
        </p:txBody>
      </p:sp>
      <p:sp>
        <p:nvSpPr>
          <p:cNvPr id="61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e chose Summerville because of their enthusiasm at our initial meetings and because we felt their refreshing approach to people development fitted our particular needs. The training programme has been brilliantly received by the participants and we are starting to see the benefits that we had hoped for. Sheila Pankhurst, Beverley &amp; Meacham</a:t>
            </a:r>
            <a:endParaRPr b="0" lang="en-US" sz="2700" spc="-1" strike="noStrike">
              <a:solidFill>
                <a:srgbClr val="000000"/>
              </a:solidFill>
              <a:latin typeface="Georgia"/>
            </a:endParaRPr>
          </a:p>
          <a:p>
            <a:pPr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8T09:14:31Z</dcterms:created>
  <dc:creator>BCS</dc:creator>
  <dc:description/>
  <dc:language>en-US</dc:language>
  <cp:lastModifiedBy>stbrown</cp:lastModifiedBy>
  <dcterms:modified xsi:type="dcterms:W3CDTF">2009-08-13T15:52:10Z</dcterms:modified>
  <cp:revision>3</cp:revision>
  <dc:subject/>
  <dc:title>Summerville Training Timeline</dc:title>
</cp:coreProperties>
</file>