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C880-8E19-4802-8D31-AF64CC08E9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082D-7AC3-4F48-8574-5D7D544A40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0189-B4DC-4366-B2C0-433C4F5866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1C91-1CE3-41D9-A1E1-48B48CD179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2220-60FB-4F22-A456-E66F2FE894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7073-5933-456E-8343-74E160198C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646D-F37B-4A7C-AF39-8E34439DB4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3C4D-22DE-4EAE-A6D7-3580CDD9CA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BAEB-AA2B-480F-8259-0EDAEB2348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FB7A-0DBA-408F-B114-CF6596A733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C91-BE80-403B-9263-7F49E9BE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08B-B2C4-472D-847B-FCDB7E40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BA14-12A3-4FE5-9BB4-2CDD1187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9F2E-3946-4A0C-A1A3-0B6A5183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D8E-0C15-4BC1-B3DF-53FC93E4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1241-A94A-44C1-8BBF-9B79A58B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644-AB47-42E8-8111-0BAF9546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A3A-3A4D-4B0F-AEAB-8E618C4F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6EB-6D66-4762-9B3D-ED9F1F50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BF8-8563-4749-B10A-0C16F030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BAF-4DA7-405B-937B-0ECA4794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B56-A735-483A-AC17-51AAD106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C263-AFDE-44C6-95B9-38C03371B70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mmerville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an we help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s Training the Answ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a company who deilver training you would expect us to say Y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urse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ition from personnel to l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ckling performance issues effec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e and build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d and implement company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 and manage workloads effec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legate and em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oose a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time personn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m lea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es personn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Key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fficient and effective use of IT is dependent on the successful of integration of 3 key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at do Managers Ne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rs need the knowledge to enable them to make informed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rs need to know about how technology can be util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rs need to know what skills they or their staff require to obtain the maximum benefi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under-trained user will cost five times more to support than a well trianed user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Gartn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75%  of employers believe employee time is wasted due to inadeqate ICT skills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British Computer Societ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96,000 managers indicate a need for improved ICT skills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Yorkshire and Humberside e-Skills UK Surve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hope that through this presentation you recognise the benefits of working with Summerville Training to develop a more strategic approach to your company’s management framworks involvement in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raining Tr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9:33:08Z</dcterms:created>
  <dc:creator>BCS</dc:creator>
  <dc:description/>
  <dc:language>en-US</dc:language>
  <cp:lastModifiedBy>stbrown</cp:lastModifiedBy>
  <dcterms:modified xsi:type="dcterms:W3CDTF">2009-08-13T15:51:42Z</dcterms:modified>
  <cp:revision>5</cp:revision>
  <dc:subject/>
  <dc:title>Summerville Training</dc:title>
</cp:coreProperties>
</file>