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2F7C-84E7-4A61-92DA-92AFDFC08A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BD17-F4D5-4F68-BD65-50B9F75733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2371-A223-4E33-AF3F-13345817A9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D5DE-6AE9-4BD6-8B44-020806F130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573D-E02A-4E15-AD7F-02C1070519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6A3C-CE7E-409A-94D3-64D0A3AA1A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7911-4075-4BA0-B9DB-3D83EA73EB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8AFB-1C95-4D28-B75F-632A24A246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C767-4F8E-4A29-B8EF-6F84EB261E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3EFB-9300-4063-A8A9-A0B3696094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99D-8F9B-4A61-907C-F6E15EF5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F8D-0542-4C3B-96E1-CFABDF93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9305-714B-43D6-9665-4D126339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DDAA-3C99-4873-B2B3-B998D14D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DB3-9C36-4486-AC5B-96EE5938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FC1-5033-44FA-87FC-FB1CED55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8F6-6C16-4354-8F78-CC1A5EEE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07A-3E5A-4DF9-A08B-19C84608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8EA-6DC3-475F-9266-B189852C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5A7A-8B4D-4D7B-94C4-C5D8A092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3A38-50CD-4837-901D-2BFF316C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37E-C493-4FF7-A134-A914C6D1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00E0-B610-412A-8599-486D5E334E6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mmerville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an we help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s Training the Answ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a company who deilver training you would expect us to say Y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urse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ition from personnel to l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ckling performance issues effec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e and build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d and implement company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 and manage workloads effec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legate and empo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oose a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time personn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m lea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es personn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Key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fficient and effective use of IT is dependent on the successful of integration of 3 key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at do Managers Ne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rs need the knowledge to enable them to make informed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rs need to know about how technology can be util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ers need to know what skills they or their staff require to obtain the maximum benefi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under-trained user will cost five times more to support than a well trianed user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Gartn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75%  of employers believe employee time is wasted due to inadeqate ICT skills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British Computer Societ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96,000 managers indicate a need for improved ICT skills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Yorkshire and Humberside e-Skills UK Surve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hope that through this presentation you recognise the benefits of working with Summerville Training to develop a more strategic approach to your company’s management framworks involvement in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raining Tr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9:33:08Z</dcterms:created>
  <dc:creator>BCS</dc:creator>
  <dc:description/>
  <dc:language>en-US</dc:language>
  <cp:lastModifiedBy>stbrown</cp:lastModifiedBy>
  <dcterms:modified xsi:type="dcterms:W3CDTF">2009-08-13T15:51:42Z</dcterms:modified>
  <cp:revision>5</cp:revision>
  <dc:subject/>
  <dc:title>Summerville Training</dc:title>
</cp:coreProperties>
</file>