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Georgia"/>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3606-EA44-42FA-B386-DE5E4324ED40}"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7CE5-5478-423C-811F-984DDA16832D}"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C01E-6635-48D0-928C-A17ACEAF408F}"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9BD8C-691C-41B1-A998-CECBCEB7A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618F9-D385-41A3-912E-2A2A66A19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7830570-F591-437F-8429-E26A9804900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A36C03C-37C2-4210-9989-D37951E12C1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1A2216F-E013-4F2C-983C-C39040A8C01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5021F3F-E490-48CB-A6C3-6BB0BEE689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B17DE7E-46A8-45A9-9636-FA6CA7899FD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B271CC5-54AA-4740-A9EB-27FFD65E3BC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8FC1249-5F45-432A-9CB9-524945DC8A7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235DD8A-419E-425C-9B5D-9F35DE69FEC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5F4630F-7E7F-46B5-AE3C-69518F685EE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BABF190-41C3-4DA9-B242-1F890D9056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701E7-3165-40B5-A6E5-77F829AFE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4073EF6-3EBE-4EF7-A192-FEDF8AFA7F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50FD58B-83EB-4873-B76A-57C1F1A318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CDB2E6C-F083-4682-8F48-EAEA87FFD5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CF5CD73-690B-46BC-9D8A-7CE2D89122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B507E3B-CF81-4465-AF43-FF0EB3B7F4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DB94DCD-FB52-44F8-8A06-8F46074311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89DB7FC-0581-48A0-AEDC-31AC6003D0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7F5154A-B59B-4B53-9E38-3F1BF126A7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6C0AD5B-0F93-455C-BA11-8FFC116DE2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280CCEF-76CF-4171-8F04-70180C0DA5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FA4A9-6D79-429C-89F2-F57CCE181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7CFEC43-6A02-499C-A1AE-2291F11A67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31384D-0367-4A89-A61F-8A3ABCB525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207F58-4A38-44E5-9732-66FEED2ED5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A824CF-D2BA-4A79-9182-453ECFFF11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A99C79-F388-4BD6-A722-DF7E2944C0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9FB312-8BD9-4207-B8DE-CE321635A9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616F2B-1290-4B7C-921B-065336F482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92EB03-5FCA-4323-B6B1-A57BB13A48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95CDCC-EAF7-4944-BE24-8105E93B5C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F39FB5-58F0-4CFB-810D-4DA08202F5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6BCBF-20BD-491C-B28D-29023439F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33B624-9BBA-4D9E-8FD7-96E34493B3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B20CE7-F5D1-423F-8B37-99BC756FBF5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2C335D-78A4-415E-A2DA-7DA348F30F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3CCA85A-E5BC-41E4-85F2-FBF5D6F9FA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1DFA06E-0FCE-4E7A-A954-3C841626DC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E84D37F-22AE-41F2-9BC9-A1402FBF3A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D28455C-46C8-4F5C-972D-B5A7785849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17A6784-2801-4141-A9DB-4ECDDBFCEA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5EAE9E8-D7F0-45B7-9C74-8140723CEA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F7FAD86-20FF-4CE0-B41A-4155C73690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AEF63-64AF-4F6F-B828-353CC069F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A4E11F5-2102-4CB9-B69F-F6464186E1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5BB709F-BBDB-4A19-8188-8F05A77E70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AF0DB99-EA65-4E4F-B6BB-E38920FC5A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AA5FF8C-EA29-4C03-A3CA-9BD54BEE5D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56577CB-C289-4D6B-A4AD-6604567A5A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46934-721A-4B9B-B09B-A210BBAD8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268E6-F6E9-4488-8DAE-F8A2495A3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5F7F2-6994-483B-8D3A-58AF4CDA0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8EF64-26A4-4F14-B36C-D1DEC6254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C6FC6-EE92-43B5-9D67-C0E092DF1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D29CD-26F6-4527-8A32-2C37B177B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1B94A-C458-4F27-8F67-2AB30F104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AC818-AF89-48F6-8FE3-73CE25FCF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494A8-F168-4DA2-836A-0FA335514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4DC5C-10C5-4CE9-979D-D8FCC691F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1A066-1379-4D42-9A7E-55203DEE0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2E4CB2-8CF4-4883-9889-AAB1D6A909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B3AC30-A713-4716-9BBB-D6B31F405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1DA06C-78D9-4E97-AF06-93EFF3787C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01644F-527D-4CB8-ADB2-CE499B699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3EF733-3E0E-4362-96AB-D8C6B1067B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71569-66BC-48E7-AFC8-E9F1ECC03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E3EB9F-066F-4B9B-B3A2-4F1B77DF0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43D6E-4EA1-4B3C-B669-965F9F1CD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A9E3F-2C23-4F3C-81EC-D7C177FB9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2D7EC-90F5-45A6-8A77-2B9BB4486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91F6D9-C3CD-4EBA-923C-981CAE7C4B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FE83EB-F5E2-41E2-8BDA-09F6AD244A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6E969D-8E21-4B41-AF3D-93F38BAEA4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54949F9-6CCD-4488-A080-239C5A34C85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6A58559-2801-4E3B-A264-51C65E61F9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6C09AF6-C6AF-404F-A45B-AC7A7F9D63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7B238-3597-4063-A790-3EBC5DBDA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A5C967A-E6F0-42F8-ACD3-562B9B83404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1B32BE0-709A-44F5-96FE-129BECE0E8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1439736-EEFB-4D9F-8AC6-2B0F3EA3DEC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512D637-C2F9-42E9-BA6D-53EDC1AAB3A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645D154-28F9-4F6F-B388-AD8B8D2C2B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8363738-72CD-4A30-B509-1C4FC6F6671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36C7ECB-D7D7-471D-984E-1B6D45B776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8F27C62-BB7D-4D0A-86C7-F8A2DE8DA5C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1A57D7C-9E47-4318-A8B3-E2C68388F62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4712CB-4C26-4076-89C0-9356DC7217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BBB9A-344B-4819-88AE-A4C3554FB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80BE3-B97A-431A-926B-21D2DC363E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68F8B8-2DE1-4DB4-9F06-CD42B428C6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D55ED0-C942-418F-9FF8-0468698E4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6B176F-43CD-4D26-8629-784661D966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75E923-F3D0-4A41-A4E5-FBB1A5C0C9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294282-90D5-4877-BC4F-D29B003BC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EDCC79-BE03-4250-A6F4-1056991F9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A6220-CE4A-4108-ACB5-C0F767877D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DCF97B-D520-475D-8A96-DE925BB085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AFDB0F-DDC4-4C41-A460-25FF0085EA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0A80B-8290-4AB9-8BAF-50EFD6420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24FF7C-3F5C-485B-9918-BA26035C8D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62E358-9476-4A32-9A4C-997D25944F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72792F-C284-47C8-BC85-4935981BA9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C10FA6-BC3C-4876-A1EA-735CFC8F28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1871C9-1D84-459D-8587-C9AC55E5DD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FC73E2-CF39-41A0-83FD-3A791B11C4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CA6C1D-50FA-4960-90C9-51FB6CF491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FA1308-1A23-4AA7-9F16-4E9537BF1C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3916F3-F716-4F9F-9A66-96BB3F556B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B938FB-E73E-47E2-A3A9-2938673913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24AA4-904D-4A8D-BDB2-F69F89D68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5F0B8A-DC61-4818-8667-2DFB747F16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76E7BD-29E0-403A-8CB1-345CF5A399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3101B5-6300-45A9-98C7-381747FB91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FFEA08-7C7F-4835-96C4-68219BB943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267FEE-8C16-459C-963B-434506B86F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7DC3B7-6F67-479E-A684-73F8EC99FB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1553C6-F91D-43B8-AD73-BA9BE5B322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251F38-82D5-4981-9C21-5AA1696ED4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F72552-9AFB-4B9A-B3CC-140D5FE4AC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4CCC89-FE89-481C-831F-6BEC5D0F6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1CA9D-E97B-4B0E-A3F7-4BCAE3458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99307C-8A53-4A90-97F4-CE09623000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71671E-CC47-42D9-A674-AB91D79B49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A8C1A2-211A-472C-BB90-F389DEA61C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8CDFB3-8449-4FFF-8D64-C00007BF2F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57F7E0-9E6B-413B-BA48-1618C7234B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3F5611-F5C8-4314-85DC-941D5565DA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BF3D6B-70E7-4027-B2E1-46300ADBD5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597FF4-0D89-4873-BEF7-18F807B4FB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6BF018-9926-4748-98CC-8AC17E0E20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711CB2-F758-41E5-A498-BD122D67E0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F5244-E630-4E05-A2A2-BA28AD325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2C1DA0-5C00-46E0-995A-3BC5D9C943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B80C65-9AF6-4EE3-BCEB-F2C3FCBB08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D198D9-E017-4EFD-94E0-5E93FB31EC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6B0D00-524B-487E-9EF6-C0E3E4601D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71DF90-23C6-48CB-920E-7B464A6555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787AC3-DB0C-4A09-894F-E25B7C3B65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D77F46-A64F-4A81-BA49-006B79AF2A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29DAD89-2897-4EF3-9315-15B373297AB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959C753-DE0F-4535-9924-E053AA7BEF2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96B07FF-0459-4F7E-9DBE-0907F0992C6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70BE-83FC-4E83-B8D7-3ADBE7CCD1AD}"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71BB-5544-465A-9FE0-1D1C738B999B}"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8E9D-4979-4EC9-93EF-F2DEEC7C923B}"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73B3-01B7-48CA-A44F-FFE56AC9D2AD}"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13"/>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5A88-F6A5-4036-BC14-19C320E95857}"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478D-10E4-4A87-AB04-AD384E9CAD98}"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F75B-A2E0-41B0-8C82-5ABAB1EF4CDD}"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56EF-4167-4C21-9847-42B8C388E000}"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12"/>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C6F8-8ECD-4A49-9BA4-BFF1F459872A}"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0218-F1DB-4E27-A49D-FD482AF27D27}"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056B-A825-440D-8958-6C25B0B06426}" type="slidenum">
              <a:rPr b="0" lang="en-GB" sz="1600" spc="-1" strike="noStrike">
                <a:solidFill>
                  <a:srgbClr val="ffffff"/>
                </a:solidFill>
                <a:latin typeface="Georgia"/>
              </a:rPr>
              <a:t>&lt;number&gt;</a:t>
            </a:fld>
            <a:endParaRPr b="0" lang="en-US" sz="16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2905-ABB6-4599-9B98-AC4DA03D0860}" type="slidenum">
              <a:rPr b="0" lang="en-GB" sz="1600" spc="-1" strike="noStrike">
                <a:solidFill>
                  <a:srgbClr val="7b9899"/>
                </a:solidFill>
                <a:latin typeface="Georgia"/>
              </a:rPr>
              <a:t>&lt;number&gt;</a:t>
            </a:fld>
            <a:endParaRPr b="0" lang="en-US" sz="1600" spc="-1" strike="noStrike">
              <a:solidFill>
                <a:srgbClr val="000000"/>
              </a:solidFill>
              <a:latin typeface="Georgia"/>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Georgi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Arial"/>
              </a:rPr>
              <a:t>Summerville Training Timeline</a:t>
            </a:r>
            <a:endParaRPr b="0" lang="en-US" sz="3300" spc="-1" strike="noStrike">
              <a:solidFill>
                <a:srgbClr val="7b9899"/>
              </a:solidFill>
              <a:latin typeface="Georgia"/>
            </a:endParaRPr>
          </a:p>
        </p:txBody>
      </p:sp>
      <p:sp>
        <p:nvSpPr>
          <p:cNvPr id="6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 1 - As part of the experience participants will explore the role of the technology in the workplace </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 2 - We will provide further information on using each of the technologies</a:t>
            </a: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y 3 – Role play, facilitation skills and software framwork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Arial"/>
              </a:rPr>
              <a:t>Client Evaluation</a:t>
            </a:r>
            <a:endParaRPr b="0" lang="en-US" sz="3300" spc="-1" strike="noStrike">
              <a:solidFill>
                <a:srgbClr val="7b9899"/>
              </a:solidFill>
              <a:latin typeface="Georgia"/>
            </a:endParaRPr>
          </a:p>
        </p:txBody>
      </p:sp>
      <p:sp>
        <p:nvSpPr>
          <p:cNvPr id="61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e chose Summerville because of their enthusiasm at our initial meetings and because we felt their refreshing approach to people development fitted our particular needs. The training programme has been brilliantly received by the participants and we are starting to see the benefits that we had hoped for. Sheila Pankhurst, Beverley &amp; Meacham</a:t>
            </a:r>
            <a:endParaRPr b="0" lang="en-US" sz="2700" spc="-1" strike="noStrike">
              <a:solidFill>
                <a:srgbClr val="000000"/>
              </a:solidFill>
              <a:latin typeface="Georgia"/>
            </a:endParaRPr>
          </a:p>
          <a:p>
            <a:pPr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09:14:31Z</dcterms:created>
  <dc:creator>BCS</dc:creator>
  <dc:description/>
  <dc:language>en-US</dc:language>
  <cp:lastModifiedBy>stbrown</cp:lastModifiedBy>
  <dcterms:modified xsi:type="dcterms:W3CDTF">2009-08-13T15:52:10Z</dcterms:modified>
  <cp:revision>3</cp:revision>
  <dc:subject/>
  <dc:title>Summerville Training Timeline</dc:title>
</cp:coreProperties>
</file>