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8974-0E76-48B5-91B2-C5FA8A3A74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A4D9-A502-4C5E-8956-15DA405180E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88E8-2FA2-43B1-BE6D-6B181CE2314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4FD8-CDE1-4F65-A02F-DDDA59786BF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313-11BA-42C9-A4C3-6DBB1058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DB0-0142-4653-9DFC-6EC0C7D2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F50-38A5-4B5F-A8A5-32708584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7DB-13AF-4CC2-B3EE-286688DF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8ED-92A8-4864-9A95-361183D0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B06-BCBC-4DDC-A8FA-3C8A0178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E50-0517-4625-96F9-E9EDEBF3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78B-E4EE-4F48-ADB3-59232DD6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A19-C2BB-4700-88A9-AB2D1D54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E19-8C55-4C20-9360-6D8F4BC9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EF9-ADB8-432F-BE5B-E05C0CC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5D4-49DB-4232-B32B-FD7753A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E2A-FC61-4B2C-982D-A87B2DC9CBD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Project 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ash course in project manage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earn how to create, view and track proj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ailored courses to suit your ne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£135 per person for a one day cour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Public Spe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have to give a speech, let us help you overcome your nerves and give you confidence in front of an aud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vercome your fea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earn to create a memorable messag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egin to speak in public with confidenc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300 per person for a one day cour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nterview Skil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want to beat the competition at your next interview, we will help you develop the skills you ne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ow to prepare for your intervie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swering difficult questions convincing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uccessfully sell yourse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£300 per person for a one day cour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06:24Z</dcterms:created>
  <dc:creator>BCS</dc:creator>
  <dc:description/>
  <dc:language>en-US</dc:language>
  <cp:lastModifiedBy>BCS</cp:lastModifiedBy>
  <dcterms:modified xsi:type="dcterms:W3CDTF">2009-09-24T10:19:05Z</dcterms:modified>
  <cp:revision>10</cp:revision>
  <dc:subject/>
  <dc:title>Project Management</dc:title>
</cp:coreProperties>
</file>