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applause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E08-6615-46E0-9A8D-27CBDE1511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600A-AAA2-48A8-874B-ED36AB6E30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3D5-FEAD-4D1D-9FFA-1B20DB03B0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50F-4B47-484B-A268-10B74736B6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45A-F322-414B-B86D-C29901FCD3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8F4-4BD1-4CF0-AC92-41C0653D5D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C8D8-EEC2-4103-9DC0-E954A2C8DC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2A8-5448-44F6-AA27-80D48355F0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726-063C-4B6A-A58F-9BF31E167C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BBA-D989-4242-A0BF-FCE0AB95C4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88A-B75B-468F-9967-661526E46C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90C-CC33-4860-BE06-F2AD3C5B7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829-6B5B-411A-AA1D-8848C50B68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F9F-9F4F-403F-B340-50F01078FB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2D1-0676-4D7F-8EAF-5168E46A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984-A031-4384-B8FE-3470D57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F3C-57EC-4236-B3A6-E721F364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F05-212C-4FCC-892A-FA490ED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4C60-AA7E-4179-BEFE-9BF7FFD4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6E1-9052-4653-9ED4-CF9BA2E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0367-844B-4652-835B-C6B82CBB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906E-7868-4750-80C3-845B3538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2BF-7E5E-4761-BD5E-9DE4523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D291-FAE2-41F6-9CBA-21A1496C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722-989F-474A-97B6-C56FC21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122-9DEC-4C65-A46E-5DB24F7F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5264-D169-458C-8BDE-E4BC4AF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F6C6-339F-4557-9299-FADBAB6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4D31-593D-4F04-9BCA-4C12787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B367-02F2-41A7-95B3-F3BA3959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18B4-D5EB-46DA-9FFF-2EDB988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9497-148C-45EC-81CD-791A508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C9CD-8427-4847-861A-6E71FAD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1AEF-4C46-427D-BF7A-922AA6A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10D5-AB8B-46D5-BC81-DB68185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5E75-362A-449B-94BF-799F7FF4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5E6-73BD-4A96-99EB-35976E79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2B4E-0CE6-4642-96D6-B499370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01FD-6F09-4A77-B755-F5175B0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72F0-533C-40EC-BA42-4CAA570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5CB0-7710-4563-B046-5A7BEDD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42A8-D5B4-4463-8DC4-6C51AFE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58F8-11AD-49B0-BD4F-930F2110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7B22-CD95-4011-9EE1-77AE9CC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D049-C2AB-4629-B283-41D9357E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4F7E-715E-47F1-977D-356A1C6B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A566-E40F-4993-AF3A-F3B681F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3B1-AFBB-4668-9AA7-97D7FEC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6610-E927-4BB6-A55E-1870A50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EA8F-7277-4528-8293-0FCA7D04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F741-5DA0-4C10-A17E-2F0CD74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02C1-0772-4C56-8EC9-C8A4D0C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C37B-545A-43D6-B26F-616055F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E8B9-ABEF-4B74-910F-E16D968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D6D6-0AA2-4E28-A959-735D17A9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5E00-7DA5-4B2E-BEF9-902C0359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90DB-D292-445B-9459-8D8678FC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66487-DC3B-40E5-AA6F-5496F3CD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59E-EE62-4FA1-8F2B-602BB547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CBC0-6290-461A-98D8-A4BD7FF1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1FB2-A491-4E07-84B2-C564278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9961-7FF1-4EFC-B66C-8BD7948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D42E-F7DC-4A41-A30D-613F2E9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E3AC-1EE8-45AD-A069-B5B3235D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FFCA-7BA4-4125-9A1F-3ECA165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5A9C4-2480-415C-962C-D8CD7C6A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DE23-97C3-4CB1-AF7E-4FDDC1B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27A4-771E-423B-A499-58BC8102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27EA-3AE1-4F14-895F-C078629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832-514B-440C-B399-3F05849E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927A-17AB-4A44-BD6F-5EBBC889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6E9A-2272-41E5-85F3-EF29EF31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89CC-3AB7-4B8E-9F6B-0CF4DB7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E947-18AF-43B7-93E7-EF72EA6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BA99-8FB3-4DDB-BA50-080086B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8C8B-5028-4445-AC0D-0A8AF85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4029-8B7D-4EEE-B9FF-FA488C4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7C4A-F685-4A39-9127-7FDCBDA7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5B23-6EFC-4E62-8FFB-8EF9110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B947C-FA89-4AC4-B6EB-1BE3CC0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B7C-54D7-45F4-951C-BD03855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1B8C-DF3C-41E8-A938-B6DF008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CFC6-A836-49FD-A0DF-72C96DAA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A8B9-98AA-4C5A-B018-C2EA1263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2DC74-9A91-4D37-A417-57650DE8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CC00-2666-4A00-8900-897B8A3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23ED-E99D-4D9D-888F-3A9C612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724F-55C8-4165-A551-A968C10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F5F9-3C81-4B25-A20E-E528276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964F-5C3F-4D51-AB9D-6124448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BF81-79F7-4D6D-A80F-23B7D19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5C8-8942-430A-B9BB-C23C18E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C2D5-E66A-425F-8AC7-97679BC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864D-C97C-446B-807C-CC0F133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3CD4-F86A-4712-A559-23FA921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58F5-39B0-42E3-A9ED-226401B6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4DF5D-0C43-464B-93D5-4251C027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F44-A94F-4146-BB8F-12EF65A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E20-1353-468B-8800-3937CA24295A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069A-4F22-465E-B353-2A45876F5C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E16-2DD8-4AAC-96F1-A6D3A446E4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4650-7F82-4773-8A59-2F2642271C71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520-5035-49D8-A662-92AA8C7F4417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DAD-E253-4D40-AA98-FDFA0032A1A7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99E-9AAB-46BA-A684-17585D59589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64840" y="407484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ed by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ing others with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ademy Applications Training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yellow oddball Dave"/>
          <p:cNvPicPr/>
          <p:nvPr/>
        </p:nvPicPr>
        <p:blipFill>
          <a:blip r:embed="rId1"/>
          <a:stretch/>
        </p:blipFill>
        <p:spPr>
          <a:xfrm>
            <a:off x="8150400" y="586440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8"/>
          <p:cNvSpPr/>
          <p:nvPr/>
        </p:nvSpPr>
        <p:spPr>
          <a:xfrm>
            <a:off x="235080" y="402732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s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07800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612468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extro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5412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50216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755028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1086120" y="505944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why we offer training to suit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e know everyone is an individual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urse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word process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spreadsheet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database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oth desktop publish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Shopping Trolley"/>
          <p:cNvPicPr/>
          <p:nvPr/>
        </p:nvPicPr>
        <p:blipFill>
          <a:blip r:embed="rId1"/>
          <a:stretch/>
        </p:blipFill>
        <p:spPr>
          <a:xfrm>
            <a:off x="6781680" y="4572000"/>
            <a:ext cx="1576440" cy="15717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ultiple Course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ffer excellent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focus on the needs of the cl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nly use accredited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believe in innovative training solu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use flexible learning aimed at the clients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hat makes us the market leader?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1920" y="1600200"/>
            <a:ext cx="48801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elegates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Group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ior bookings/year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Loyalty Schem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Latest specification compu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lat screen monito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ouse mats and keyboard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oot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rthopaedic chai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Computer"/>
          <p:cNvPicPr/>
          <p:nvPr/>
        </p:nvPicPr>
        <p:blipFill>
          <a:blip r:embed="rId1"/>
          <a:stretch/>
        </p:blipFill>
        <p:spPr>
          <a:xfrm>
            <a:off x="6715080" y="2214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Specific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9"/>
          <p:cNvGrpSpPr/>
          <p:nvPr/>
        </p:nvGrpSpPr>
        <p:grpSpPr>
          <a:xfrm>
            <a:off x="6093000" y="3156120"/>
            <a:ext cx="2903400" cy="2423160"/>
            <a:chOff x="6093000" y="3156120"/>
            <a:chExt cx="2903400" cy="2423160"/>
          </a:xfrm>
        </p:grpSpPr>
        <p:sp>
          <p:nvSpPr>
            <p:cNvPr id="318" name="Isosceles Triangle 11"/>
            <p:cNvSpPr/>
            <p:nvPr/>
          </p:nvSpPr>
          <p:spPr>
            <a:xfrm>
              <a:off x="7353360" y="3516480"/>
              <a:ext cx="1576440" cy="1528560"/>
            </a:xfrm>
            <a:prstGeom prst="triangle">
              <a:avLst>
                <a:gd name="adj" fmla="val 50000"/>
              </a:avLst>
            </a:prstGeom>
            <a:solidFill>
              <a:srgbClr val="f0a7b1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Isosceles Triangle 10"/>
            <p:cNvSpPr/>
            <p:nvPr/>
          </p:nvSpPr>
          <p:spPr>
            <a:xfrm>
              <a:off x="6215040" y="3156120"/>
              <a:ext cx="1927080" cy="1888920"/>
            </a:xfrm>
            <a:prstGeom prst="triangle">
              <a:avLst>
                <a:gd name="adj" fmla="val 50000"/>
              </a:avLst>
            </a:prstGeom>
            <a:solidFill>
              <a:srgbClr val="d9253e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7353360" y="3516480"/>
              <a:ext cx="699840" cy="718920"/>
            </a:xfrm>
            <a:prstGeom prst="ellipse">
              <a:avLst/>
            </a:prstGeom>
            <a:solidFill>
              <a:srgbClr val="ffff00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"/>
            <p:cNvSpPr/>
            <p:nvPr/>
          </p:nvSpPr>
          <p:spPr>
            <a:xfrm>
              <a:off x="6093000" y="5119560"/>
              <a:ext cx="29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oftware Ho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271600" y="1581120"/>
            <a:ext cx="4600800" cy="2052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22400" y="3305160"/>
            <a:ext cx="2144520" cy="20653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credit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6"/>
          <p:cNvSpPr/>
          <p:nvPr/>
        </p:nvSpPr>
        <p:spPr>
          <a:xfrm>
            <a:off x="662400" y="178452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have a variety of training room designs to suit any type of training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lowchart: Manual Operation 37"/>
          <p:cNvSpPr/>
          <p:nvPr/>
        </p:nvSpPr>
        <p:spPr>
          <a:xfrm>
            <a:off x="2571840" y="3730680"/>
            <a:ext cx="2979720" cy="398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Manual Operation 38"/>
          <p:cNvSpPr/>
          <p:nvPr/>
        </p:nvSpPr>
        <p:spPr>
          <a:xfrm rot="16200000">
            <a:off x="2047680" y="4266720"/>
            <a:ext cx="163692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nual Operation 39"/>
          <p:cNvSpPr/>
          <p:nvPr/>
        </p:nvSpPr>
        <p:spPr>
          <a:xfrm flipV="1">
            <a:off x="4438800" y="4266360"/>
            <a:ext cx="163656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604440" y="2325600"/>
            <a:ext cx="1814760" cy="2109960"/>
            <a:chOff x="604440" y="2325600"/>
            <a:chExt cx="1814760" cy="2109960"/>
          </a:xfrm>
        </p:grpSpPr>
        <p:sp>
          <p:nvSpPr>
            <p:cNvPr id="330" name="Rectangle 41"/>
            <p:cNvSpPr/>
            <p:nvPr/>
          </p:nvSpPr>
          <p:spPr>
            <a:xfrm>
              <a:off x="649080" y="2635200"/>
              <a:ext cx="539640" cy="180036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 rot="5400000">
              <a:off x="1537200" y="2292840"/>
              <a:ext cx="539640" cy="122400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Oval 43"/>
            <p:cNvGrpSpPr/>
            <p:nvPr/>
          </p:nvGrpSpPr>
          <p:grpSpPr>
            <a:xfrm>
              <a:off x="1768320" y="3779640"/>
              <a:ext cx="518040" cy="511920"/>
              <a:chOff x="1768320" y="3779640"/>
              <a:chExt cx="518040" cy="511920"/>
            </a:xfrm>
          </p:grpSpPr>
          <p:pic>
            <p:nvPicPr>
              <p:cNvPr id="333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8320" y="3779640"/>
                <a:ext cx="51804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897920" y="3886200"/>
                <a:ext cx="2606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44"/>
            <p:cNvSpPr/>
            <p:nvPr/>
          </p:nvSpPr>
          <p:spPr>
            <a:xfrm>
              <a:off x="604440" y="23256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5"/>
          <p:cNvGrpSpPr/>
          <p:nvPr/>
        </p:nvGrpSpPr>
        <p:grpSpPr>
          <a:xfrm>
            <a:off x="5936400" y="2305800"/>
            <a:ext cx="2804760" cy="2536920"/>
            <a:chOff x="5936400" y="2305800"/>
            <a:chExt cx="2804760" cy="2536920"/>
          </a:xfrm>
        </p:grpSpPr>
        <p:sp>
          <p:nvSpPr>
            <p:cNvPr id="337" name="Rectangle 46"/>
            <p:cNvSpPr/>
            <p:nvPr/>
          </p:nvSpPr>
          <p:spPr>
            <a:xfrm rot="7506000">
              <a:off x="6901200" y="218592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 rot="7506000">
              <a:off x="805284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 rot="7506000">
              <a:off x="6613920" y="2603880"/>
              <a:ext cx="290520" cy="112392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9"/>
            <p:cNvSpPr/>
            <p:nvPr/>
          </p:nvSpPr>
          <p:spPr>
            <a:xfrm rot="7506000">
              <a:off x="7763760" y="3432240"/>
              <a:ext cx="29196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0"/>
            <p:cNvSpPr/>
            <p:nvPr/>
          </p:nvSpPr>
          <p:spPr>
            <a:xfrm rot="7506000">
              <a:off x="633348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1"/>
            <p:cNvSpPr/>
            <p:nvPr/>
          </p:nvSpPr>
          <p:spPr>
            <a:xfrm rot="7506000">
              <a:off x="7485120" y="383976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52"/>
            <p:cNvSpPr/>
            <p:nvPr/>
          </p:nvSpPr>
          <p:spPr>
            <a:xfrm rot="2083800">
              <a:off x="7470720" y="27223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Oval 53"/>
            <p:cNvGrpSpPr/>
            <p:nvPr/>
          </p:nvGrpSpPr>
          <p:grpSpPr>
            <a:xfrm>
              <a:off x="6485760" y="4110120"/>
              <a:ext cx="633600" cy="609480"/>
              <a:chOff x="6485760" y="4110120"/>
              <a:chExt cx="633600" cy="609480"/>
            </a:xfrm>
          </p:grpSpPr>
          <p:pic>
            <p:nvPicPr>
              <p:cNvPr id="345" name="Oval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5760" y="4110120"/>
                <a:ext cx="6336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1799400">
                <a:off x="6666480" y="4295520"/>
                <a:ext cx="2390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Oval 54"/>
          <p:cNvGrpSpPr/>
          <p:nvPr/>
        </p:nvGrpSpPr>
        <p:grpSpPr>
          <a:xfrm>
            <a:off x="3797280" y="4316400"/>
            <a:ext cx="519120" cy="511200"/>
            <a:chOff x="3797280" y="4316400"/>
            <a:chExt cx="519120" cy="511200"/>
          </a:xfrm>
        </p:grpSpPr>
        <p:pic>
          <p:nvPicPr>
            <p:cNvPr id="348" name="Oval 54" descr=""/>
            <p:cNvPicPr/>
            <p:nvPr/>
          </p:nvPicPr>
          <p:blipFill>
            <a:blip r:embed="rId3"/>
            <a:stretch/>
          </p:blipFill>
          <p:spPr>
            <a:xfrm>
              <a:off x="3797280" y="43164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0480" y="4421160"/>
              <a:ext cx="260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5"/>
          <p:cNvSpPr/>
          <p:nvPr/>
        </p:nvSpPr>
        <p:spPr>
          <a:xfrm>
            <a:off x="3825360" y="33433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01929"/>
                </a:solidFill>
                <a:latin typeface="Arial"/>
              </a:rPr>
              <a:t>Sty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Desig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cademy Values"/>
          <p:cNvPicPr/>
          <p:nvPr/>
        </p:nvPicPr>
        <p:blipFill>
          <a:blip r:embed="rId1"/>
          <a:stretch/>
        </p:blipFill>
        <p:spPr>
          <a:xfrm>
            <a:off x="1711440" y="2438280"/>
            <a:ext cx="5248080" cy="22669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547640" y="19908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pired by IT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Inspiring others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ission Stat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urnover and Trainer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27080" y="1662120"/>
          <a:ext cx="76485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62120"/>
                    <a:ext cx="7648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lowchart: Process 4"/>
          <p:cNvSpPr/>
          <p:nvPr/>
        </p:nvSpPr>
        <p:spPr>
          <a:xfrm>
            <a:off x="357120" y="2857680"/>
            <a:ext cx="2444760" cy="64260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Peter G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Executive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owchart: Process 5"/>
          <p:cNvSpPr/>
          <p:nvPr/>
        </p:nvSpPr>
        <p:spPr>
          <a:xfrm>
            <a:off x="357120" y="42861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Belinda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of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lowchart: Process 10"/>
          <p:cNvSpPr/>
          <p:nvPr/>
        </p:nvSpPr>
        <p:spPr>
          <a:xfrm>
            <a:off x="357120" y="357192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eil 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lowchart: Process 11"/>
          <p:cNvSpPr/>
          <p:nvPr/>
        </p:nvSpPr>
        <p:spPr>
          <a:xfrm>
            <a:off x="357120" y="50007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icole Sav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or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Senior Staff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Traditional classroom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espoke applications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5587920" y="306072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6883560" y="2895480"/>
            <a:ext cx="1428480" cy="1428840"/>
          </a:xfrm>
          <a:prstGeom prst="ellipse">
            <a:avLst/>
          </a:prstGeom>
          <a:solidFill>
            <a:srgbClr val="f0ad00">
              <a:alpha val="30000"/>
            </a:srgbClr>
          </a:solidFill>
          <a:ln w="3240">
            <a:solidFill>
              <a:srgbClr val="f0ad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3"/>
          <p:cNvSpPr/>
          <p:nvPr/>
        </p:nvSpPr>
        <p:spPr>
          <a:xfrm>
            <a:off x="6373800" y="389556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rved Down Arrow 14"/>
          <p:cNvSpPr/>
          <p:nvPr/>
        </p:nvSpPr>
        <p:spPr>
          <a:xfrm rot="13783200">
            <a:off x="5178240" y="4448880"/>
            <a:ext cx="1282680" cy="8096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653" y="0"/>
                </a:lnTo>
                <a:arcTo wR="8244" hR="21600" stAng="-5400000" swAng="3355194"/>
                <a:lnTo>
                  <a:pt x="21338" y="16200"/>
                </a:lnTo>
                <a:lnTo>
                  <a:pt x="18192" y="21600"/>
                </a:lnTo>
                <a:lnTo>
                  <a:pt x="14521" y="16200"/>
                </a:lnTo>
                <a:lnTo>
                  <a:pt x="16225" y="16200"/>
                </a:lnTo>
                <a:arcTo wR="8244" hR="21600" stAng="-2044806" swAng="-3078521"/>
                <a:lnTo>
                  <a:pt x="9948" y="467"/>
                </a:lnTo>
                <a:arcTo wR="8244" hR="21600" stAng="-5676673" swAng="-5123327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76673"/>
                <a:lnTo>
                  <a:pt x="9948" y="467"/>
                </a:lnTo>
                <a:arcTo wR="8244" hR="21600" stAng="-5676673" swAng="-5123327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rved Down Arrow 15"/>
          <p:cNvSpPr/>
          <p:nvPr/>
        </p:nvSpPr>
        <p:spPr>
          <a:xfrm rot="7301400">
            <a:off x="7732800" y="4105800"/>
            <a:ext cx="1283040" cy="808200"/>
          </a:xfrm>
          <a:custGeom>
            <a:avLst/>
            <a:gdLst>
              <a:gd name="textAreaLeft" fmla="*/ 244800 w 1283040"/>
              <a:gd name="textAreaRight" fmla="*/ 937080 w 1283040"/>
              <a:gd name="textAreaTop" fmla="*/ 108000 h 808200"/>
              <a:gd name="textAreaBottom" fmla="*/ 700200 h 80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rved Down Arrow 16"/>
          <p:cNvSpPr/>
          <p:nvPr/>
        </p:nvSpPr>
        <p:spPr>
          <a:xfrm>
            <a:off x="6132600" y="2222640"/>
            <a:ext cx="1282680" cy="8078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000 h 807840"/>
              <a:gd name="textAreaBottom" fmla="*/ 699840 h 80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Method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4:57:01Z</dcterms:created>
  <dc:creator>BCS</dc:creator>
  <dc:description/>
  <dc:language>en-US</dc:language>
  <cp:lastModifiedBy>stbrown</cp:lastModifiedBy>
  <dcterms:modified xsi:type="dcterms:W3CDTF">2009-12-03T15:26:59Z</dcterms:modified>
  <cp:revision>79</cp:revision>
  <dc:subject/>
  <dc:title>Slide 1</dc:title>
</cp:coreProperties>
</file>