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3F4A-FBD4-4CAC-8729-F3FEAF900F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96D4-1F65-4F92-8716-F8A3B5606AD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7512-B882-4132-BE66-47A2789CDBB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0F3A-6C29-4410-BB5F-2C97B81EEFC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3D23-67BE-4945-A39B-66D0BCD54FE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1A96-B5B4-44BA-9A5D-48353A826CB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F413-A598-4845-BE6A-CA5A81241E0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CAE-30C9-45A7-9A7B-C585E39D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97B-7433-4920-8F5C-F550BF57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6A1-F216-471C-B2F5-1F3A1988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4B6-9C27-4A0E-A410-429DA359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AD1D-3671-47A3-9888-77FCE954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28A4-80C0-4148-96FC-9CB33775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F525-CF61-4BFA-8776-0F79ED14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96B7-3A25-46F8-AF7F-125F52DD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F336-35B4-4088-ADD3-775DAB47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E4D7-A739-4783-82D8-048E689E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39EB-9455-4C03-92BA-785BF3F6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D99-6920-48CB-A40B-1A681E71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3AF4-0DA6-4E3B-AA52-91478A5C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71D7-E37B-4A5D-AA72-6D61685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37B6-6812-41D9-874B-C1DCF297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9810-C173-4F3B-A65F-FF46B989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9C87-924F-494E-95B1-DEFFF94A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A17C-AC6A-4F00-9DE0-C5FF7A33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E216-74A9-4749-877D-DBF3279D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AE77-F90C-4CCC-99A2-3EFD613C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07A3-B391-48AF-A914-F3C77E09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66CF-4922-49A9-9991-622EA260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7F7-F54D-4540-9A25-BB0A7D6D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3437E-9EF0-4C6C-AEA0-C88F462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FFB4-625B-4747-AFFA-BF25394A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0D5B-AAD9-4A3A-83A3-FDEE0464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D16E-330F-4EBE-A7C0-A2CD37BC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C4458-D998-4E7C-830D-C19A228E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5566-9ECE-4148-9E7F-70D280F9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61E6-15AC-4A77-9FB2-A5DA6014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95EC-CF38-42FF-B1B3-AE302BE8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1B1BB-C39C-47FF-8034-A53E36DA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9817-9EB4-4D5B-A861-643D1941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AC6-BDFE-407D-BF74-46FF73D3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0653-07CA-411C-A2B0-FE54A5A0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2EAB-5562-4210-9B34-B2D850B6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AF42-7576-4247-8EA1-1B0E03BF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951F-5DCC-4605-891F-BA7BBFA4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35DC0-53DA-44A8-B638-59D8CF0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16CE-256E-43F1-8062-6D608B81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42B88-28E5-4F0B-8D58-2347E17F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1BA9-0263-4457-B04A-E559D075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48D8-39F8-4424-9747-3ABFE4AD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70D1A-F9F4-420E-8D2E-EA903603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970-8885-433E-AB3C-E7777B8F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EAE44-8C3E-44F9-BED7-6C56285F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F646A-7689-4B1F-8C39-00819299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334F-CA65-45F9-8FB2-3B8FC04D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2C912-299D-4090-8A25-C68F96FA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717C-254D-47D0-9DD5-77D042F6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B203B-8F8F-44E4-9E06-B4B4A144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3F1C-E0BE-4820-AF98-19D19A7E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FA94-190E-4F78-B111-EC9A366F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1E555-39B7-4CC7-9C8B-A91D2956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49FB6-6291-4880-A880-200DF19E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757-4280-42ED-BEB0-52434CBF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8C062-16C4-4EA2-A8E2-9D709B90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4AF5A-551C-434E-9334-258BC890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A4176-E27C-4F52-B525-E4170119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22705-FA1B-4D1D-A72A-AA11B87D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4F87F-86CF-4B55-BAAF-D8909AB2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947D5-DDAD-4D15-AEC5-7443777D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6023-1B48-456F-83EC-AA93B59A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5FB6-7DEB-440E-B5ED-844398F0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3B87C-329D-4CEC-A955-ECD9B229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A7904-0EF2-4185-9086-1843A0F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9AC-F3E3-4FD3-9CD2-109D156B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197E1-9C55-4499-8B41-B8C6BE88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D0D3B-59DC-40D5-8F3B-40BE3415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D636B-316E-48B5-AF7C-A69D1409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24407-DC28-468A-8D0B-539A0651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DE84A-99B7-4E5F-A729-2002D871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4666F-3DC1-492E-B3C3-939E453B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5366F-32BB-4756-9DAB-481766F1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13104-5105-4922-ABA7-51FEA1F5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642C9-8C1C-49E8-AF76-D65E8D27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551D0-FF49-4796-9A04-30F2E126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D1F-66DC-4DA3-81E2-7DFA3BA7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50933-FF58-4167-B06A-3520AD8E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4FE5C-45B4-4C1F-9FFC-5197DC6F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225F5-6E50-4EAB-A087-43B12347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C825F-83CC-4E91-9EBF-4FBF6E8E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9C96F-59D0-4868-B851-0E59EB6B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724-26E2-419E-95D8-7B1CB53E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F5C9-5049-48DF-BF2D-AE73DAEC0663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4341-5DBE-4D56-830C-D764612D7B9E}" type="slidenum">
              <a:rPr b="0" lang="en-GB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0B22-9174-4AC0-BEEF-F848B9E8689E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3009-6FE2-4D6E-9E44-905FCEE7B337}" type="slidenum">
              <a:rPr b="0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3D62-BD2B-4637-8BA0-25A9C8A04FEA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C769-C805-4AC9-9204-EEEDD66A2F21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126B-0960-4F65-B723-D0A2D81411A9}" type="slidenum"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Underground car parking availa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asy access by train/c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ity centre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4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Gy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af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Manchester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Accommodation on sit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ity centre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5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Delegates loung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Swimming po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Leeds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Situated next to the railway st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nteractive white boar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5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On-site park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afé b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York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Underground car parking availa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asy access by tube or trai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entral London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2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London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Due to open next ye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New flagship training centre for the grou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16 training rooms (seats 160 delegates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4 conference suit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2 restaura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Italia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Bristol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dinburg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Birmingha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Newcast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Liverpo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Coming Soon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7:57:44Z</dcterms:created>
  <dc:creator>BCS</dc:creator>
  <dc:description/>
  <dc:language>en-US</dc:language>
  <cp:lastModifiedBy>stbrown</cp:lastModifiedBy>
  <dcterms:modified xsi:type="dcterms:W3CDTF">2009-12-03T14:36:32Z</dcterms:modified>
  <cp:revision>4</cp:revision>
  <dc:subject/>
  <dc:title>Bristol Academy</dc:title>
</cp:coreProperties>
</file>