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DD6F-C718-4C0D-8960-F0CE2C59F5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1B6E-6856-4F27-B307-8791AB78E69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05FE-8F88-40DF-AF34-BCC07549E50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9416-4188-4A8D-96ED-DAD0F127564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DCEA-3D16-48F6-B6F3-5DE24DF89F6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0DB4-D628-442D-8E1D-613EFE05A72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4167-5B02-4697-A8E8-237C369894BB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A89D-5BF4-4F98-910A-EB74820C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2860-E7D3-4F4D-B531-0FE2E95B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DE4-6795-4D99-A4E0-BDEE669D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4D1D-B27C-4359-AC29-E9F93CD6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6976-8C45-4D2E-A8D1-4BC0F60C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4650-26B3-4086-AFBE-A110AB57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559F-BC78-4B36-8459-2BB7897C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8052-C302-432A-A677-38AABC4B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9919-2420-45BF-ACAE-A5A32B31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081F-01DD-49C9-BCF2-8F4E2CAB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935D-473F-4768-95F2-8FF6A57A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8347-91CC-4079-80A7-739BA61E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40AB-E5C5-4865-9A9C-EA1CA24D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C004-58CB-4803-87CC-9CC0A67A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8310-9B03-4991-9596-A130F656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148E-559A-4DAF-8AC6-0D8DEB30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FD60-1FE3-4A5C-AE86-96814339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76ABC-6A18-40BE-8F52-F01BBD1D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62919-A02B-41EC-A75D-24852418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93809-8AEF-496F-B651-702898D3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6970D-836A-4D12-8FC7-9D22BD2D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686A9-AEB5-49BD-A666-074ED922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A3FB-9848-4ED2-82FE-C2C6FF8B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B099E-2E22-4004-82C9-B55FA496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48885-9CF9-4DD8-B40E-6B3A8CB9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3DCAB-D066-4AD6-8301-AFD476A8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E7629-3FF7-49C8-A954-01ED8711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720DB-8805-4069-BE07-7D60C19F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AC60C-F1B0-4325-91C0-24622DA1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F797A-8063-4144-BD2A-AF2400D7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45A20-87D6-45D3-A53B-470931C5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F02EF-8558-4C9A-B0B7-45D23B95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42251-DCF8-45FB-9F42-7D4EEE44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B028-1934-48AD-9E47-F8638EE7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CFF73-2050-4461-83B8-73CEFAAB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F39C6-F253-48AF-9693-B5ED90BF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037DC-9868-47AF-85C6-25854CD2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7AF40-E7E7-4202-A621-CC80A678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A8813-BD0B-4224-B825-490EE6BF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13F95-2F49-414E-8EF3-580B0D0C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B94B7-C51B-43DD-AA8C-7D1176E6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E8265-8559-44FD-8EE2-18C6D112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9F823-CAF6-4E0D-87E5-17D066D8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6E9C6-FB3E-436F-8872-74349EF2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0E8F-518F-4A66-A68D-3BFEC871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7A058-E371-446D-9FC0-69FECD7C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2E83A-552A-4C34-B51D-792093BF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C15C9-16E2-4CFE-9923-BBCBD2CC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C679A-E49E-4C35-8736-7C8FD979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A856A-7C97-4D9B-9B95-20865EC4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094FA-E822-4342-98CE-05BD7A0A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8D974-E2C9-4D2D-B71C-39A054C4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24517-F731-420B-8EFE-A653B0A0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E8756-D811-401E-B828-BD42CBB3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61357-5951-4119-AD99-8FBE51DC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935-8BE4-4FCE-AB8E-E75192B3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A8DF1-6285-4336-88D7-E250CE03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4F7AE-B97E-4627-B12E-EF99F664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5860A-46BC-44B2-9957-3EF32391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57B56-F9D8-4D9A-B049-C327554C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8DE19-92D6-4284-8D7C-C113F3E1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FEBF6-1121-4B95-B8B1-6ED1DC8B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E62CE-7B84-4F38-BEB6-3F5E677A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59FC1-F46A-4E9F-95A0-DF326DAA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F7AE8-9E1D-431D-BD44-73760F92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5E8E6-9957-464B-9A0C-CAA72BA5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A343-E0BF-499B-A4A7-90E732DA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2CB10-B666-429C-90F0-0A6ACBB3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03896-C164-40F2-A3E1-EE572284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C328B-42C3-41CD-A553-BAA6EC10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8361A-F316-47F1-9DD0-3698C081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10A99-49B3-47B5-9E94-A55CE6B2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21A5E-34D1-4EB5-A728-36E2558A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D7071-9560-4934-AF50-AFD3B6A8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91E57-FCE8-4A0B-9F06-01220E9A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6859A-72EE-4CC7-B136-E3F7EE6A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17D7D-1C4F-4CCA-8F7A-4A90BE17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2277-6FC3-4D19-9490-74E3ACE0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16622-7CDF-41E7-909E-66F13EEB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4019A-BDE4-473A-88D5-628DD425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6EB69-DB18-4A36-9E27-6E185206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E7EDD-9DE7-40D7-A728-FC5E9ADA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767A8-56EB-4E43-B3FC-35434FA1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D8D6-405C-49AE-9C00-A231C13A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A217-3295-42B7-A3CB-C7E89BEDDBB6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BB65-F4D4-4625-9841-E954DB55C73B}" type="slidenum">
              <a:rPr b="0" lang="en-GB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9378-8008-429C-986F-C5F6741E6A22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D654-2384-4E69-AB3C-F6BCC00B7570}" type="slidenum">
              <a:rPr b="0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F70D-A321-43E8-A74D-75AAA3866B17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26BA-C4B9-4404-9575-F558A7E332A8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D798-DEBF-4E95-81C8-165B2F732B1A}" type="slidenum">
              <a:rPr b="0" lang="en-GB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Underground car parking availab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Easy access by train/ca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City centre loc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14 training suit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Restaura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Gy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Café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8fbf93"/>
                </a:solidFill>
                <a:latin typeface="Century Gothic"/>
              </a:rPr>
              <a:t>Manchester Academy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Accommodation on sit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City centre loc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15 training suit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Delegates loung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Swimming poo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Restaura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8fbf93"/>
                </a:solidFill>
                <a:latin typeface="Century Gothic"/>
              </a:rPr>
              <a:t>Leeds Academy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Situated next to the railway st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Interactive white board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5 training suit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On-site park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Café ba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8fbf93"/>
                </a:solidFill>
                <a:latin typeface="Century Gothic"/>
              </a:rPr>
              <a:t>York Academy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Underground car parking availab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Easy access by tube or trai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Central London loc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12 training suit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Restaura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8fbf93"/>
                </a:solidFill>
                <a:latin typeface="Century Gothic"/>
              </a:rPr>
              <a:t>London Academy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Due to open next yea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entury Gothic"/>
              </a:rPr>
              <a:t>New flagship training centre for the group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entury Gothic"/>
              </a:rPr>
              <a:t>16 training rooms (seats 160 delegates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entury Gothic"/>
              </a:rPr>
              <a:t>4 conference suit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entury Gothic"/>
              </a:rPr>
              <a:t>2 restaurant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Frenc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Italia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8fbf93"/>
                </a:solidFill>
                <a:latin typeface="Century Gothic"/>
              </a:rPr>
              <a:t>Bristol Academy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Edinburg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Birmingha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Newcast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Liverpoo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8fbf93"/>
                </a:solidFill>
                <a:latin typeface="Century Gothic"/>
              </a:rPr>
              <a:t>Coming Soon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7:57:44Z</dcterms:created>
  <dc:creator>BCS</dc:creator>
  <dc:description/>
  <dc:language>en-US</dc:language>
  <cp:lastModifiedBy>stbrown</cp:lastModifiedBy>
  <dcterms:modified xsi:type="dcterms:W3CDTF">2009-12-03T14:36:32Z</dcterms:modified>
  <cp:revision>4</cp:revision>
  <dc:subject/>
  <dc:title>Bristol Academy</dc:title>
</cp:coreProperties>
</file>