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C075-0D0D-4A58-A1A7-30B53EDEA0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0CEE-8763-4095-AAAB-07E53EA8524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9C02-D2D8-4244-8E09-C598E16CF38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F7BF-149A-42D0-83CD-02283E23C7E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8C45-8463-4190-91A1-14C1E600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34AD-63DD-463C-8BEE-BE0E1F7C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3E3B-80EA-44F6-967A-9CD636DB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B05B-52BE-45A8-929F-DD9B5381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96B1-F7B5-456F-9FF1-4E46775E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527D-7EF2-436F-B2D4-A99658C2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271D-3801-4CEF-B1AC-D9E77BE2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627F-FB31-4439-8385-1E23B6D9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420D-4572-4A11-A134-25DA27CC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6E8C-AE24-4146-ABB1-0E1C6A64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4BC9-9DA3-4C8E-92C0-416A27FF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7870-9477-4011-8CF1-9F21B0AF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5E68-1C21-40D4-BE34-2635B980688F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Project Manage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rash course in project manage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Learn how to create, view and track projec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ailored courses to suit your nee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£135 per person for a one day cours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Public Speak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1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f you have to give a speech, let us help you overcome your nerves and give you confidence in front of an audien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40" indent="1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Overcome your fear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40" indent="1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Learn to create a memorable messag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40" indent="1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Begin to speak in public with confidenc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40" indent="1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300 per person for a one day cour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40" indent="1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Interview Skil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1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f you want to beat the competition at your next interview, we will help you develop the skills you ne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How to prepare for your interview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Answering difficult questions convincingly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uccessfully sell yourself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£300 per person for a one day cours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40" indent="1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1:06:24Z</dcterms:created>
  <dc:creator>BCS</dc:creator>
  <dc:description/>
  <dc:language>en-US</dc:language>
  <cp:lastModifiedBy>BCS</cp:lastModifiedBy>
  <dcterms:modified xsi:type="dcterms:W3CDTF">2009-09-24T10:19:05Z</dcterms:modified>
  <cp:revision>10</cp:revision>
  <dc:subject/>
  <dc:title>Project Management</dc:title>
</cp:coreProperties>
</file>