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applause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81AE-DBA2-4D25-A1BF-D3B0E4EFBD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3B9-2CC4-44C1-8651-69AD6B175B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669E-42C7-4924-B1BF-995ED077DB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E41F-529A-4BA7-AF65-0C10D02772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A314-5911-4247-9499-5DEF084DEB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C1AE-2E8F-4524-BD5D-DBC721F771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F657-3B43-401B-B95F-6B94F32585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84D-C6A7-4839-89EE-586E9BF2FA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0A5B-70C5-4407-A6BB-993EE39B33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08D2-C9F9-439B-ADAD-A52C393AD1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0A8-10A8-4753-AA71-1B56902D46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B24-BB30-4880-9FB1-A9D4DC0D4E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D2EA-6C75-4836-BF19-4367E5BF60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0256-B718-4AF6-BFC2-AF45067999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4D5-2220-4E76-97BE-A59F4927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D2E-B258-446D-B250-2292129E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C80-D9D5-4B62-BCE7-E3A102A1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AD3-1B33-4A1A-8CED-464BC414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87D0-BE1C-4121-9AA7-79C572B1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0E7-393D-4E08-B5E1-55D12C33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401-F3D8-4484-9A3B-E35709DE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968-8E9C-4B65-9517-6C170A7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EFEC-849A-49EE-B478-5276C5D5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3A2-AEE3-47BE-9775-6874AA1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4D95-E5BD-41DB-A4FE-1631347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455-26CE-4BC0-B8DB-A2D4701A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EF3-7C5C-4952-9B5C-9EE31EAA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3BE8-CEAC-4B54-B5BA-E53BE43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073-1E2D-4129-84A0-0C73B73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F90-6177-4DEB-B41E-047AAD5B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99B3-0FEE-46F0-8D09-4807E213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BCD6-B199-4C5D-AB7F-4DB92C70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E0D7-9FDA-48B3-91A0-CCFFB70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E6A7-55E5-4A15-9322-CD455D3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A034-F298-4340-944B-58987DF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23D5-3203-41D0-A389-01D5987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8AA-FF55-4CC7-A58F-1A3EA36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B06B-4D02-4848-966F-6AACF537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58D3-7902-46C5-A9CE-709FAA2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6A3D-5895-4E77-ABAA-486B8A3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9380-B71B-4F99-9E83-6EF1678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939C-3782-4C17-9FFD-F38A49D7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0B46-A22C-4B87-9C62-9CA07D94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8FBF-321F-4B49-A8C8-E8DCB24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FD45-FFF9-4D76-95B9-13F23CA2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E07A-BA72-4B48-A686-E21C7EC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A88A-E80A-4D20-8AD1-1771C2EF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1F6-1CC7-41E3-B575-014FF09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6664-29A9-4CDE-9674-37BC171B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A955-3B52-42E9-BA75-4B465465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DE9F-0E21-4062-900B-2CB28F79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2C723-AA69-499C-BB72-46EBAFB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D8DE-1963-4314-B2D5-5439BEDB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E3711-F316-4410-905F-F53FF8B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8DBA-D1F7-4354-8BCD-B1EB4B1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EDE7-98A3-40DA-A01B-EC4A1CFE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9496-8AAE-4766-970B-D078DAD1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9E9B2-49B6-41BE-971B-73AD2130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5BC-D7FD-437A-8529-76BABC5F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CEB8-40FE-499C-B843-BC88BA1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6243-46FD-4E37-8CEF-F51E242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02AA-A4EB-4317-A1BE-C22EB9E3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05AD-9FCE-4756-BB8B-D81937CF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E57C-DEE4-4541-A80B-0E7C6D7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49A4-90BC-4CCF-AF17-B34EC12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29D1-07BC-4700-BCB9-7D02818F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077F-6133-4819-8790-94239C59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9FE6D-2682-42CF-9403-CD9CF1CB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6127-5122-4862-A31B-F1B92F13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626-01D6-49E3-B430-7213686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13DE1-13BC-4317-84F0-0AAEC76D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2EF7-AA14-4D8D-86EC-79029FF3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849D-2B24-4672-BD5E-22365832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1D7F-9706-4E61-9632-2812F27F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E885-A987-43DD-BAB3-D599573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3F31E-0E6D-4F0B-AF9F-E19304A8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B9B3-F363-4353-8054-196D1F97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2F10-A749-499A-961D-F28DB03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521B8-65E5-432D-9985-E918DAB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2C4D7-A52C-45AD-9B5F-3474C48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F74-BD36-44F1-8005-E66076E4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6D69-1D0D-4924-85DD-D1BF458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2841-382E-4765-B732-757E9685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8E94-B2AB-4937-9419-70FB060B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AECB-163E-49EC-BFE7-8836389C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25B88-3B9C-4D5A-8086-F2662C84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1344-F738-40D9-A06C-635A431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16EE-0778-4FB4-BDD8-42827AB9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E657-07FA-40D2-AF58-66E7C3ED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E2B63-7886-47F1-BA8B-75FD661B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F663-7D99-4F4D-B82E-C030A31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C2B-EF48-479F-8D65-4E0F649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BAC1-9923-4A8B-A752-DF0B7EF7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BE1C-6C2B-4A20-A299-58D038A0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9BED-1E01-4AE7-817C-C4349D8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D7A7-DBDA-4F46-A724-10543078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EB99-A96B-4AF1-90CE-0ECBD54A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96F-2BDE-46F1-85C9-0B1CD3B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12E-A076-4081-956E-6B7A1DC2E403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6576-B5C9-45D6-879E-F88352014D2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FA3-8968-459F-8403-E66E8C9B7C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5986-ADB8-4FF3-B2A1-675EBAF52870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E5DC-66ED-48BF-9BAC-D0D24B2A4D15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167-F012-4688-903E-80059DC58336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9BE-D966-46EE-B686-F60AEDAAE84B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64840" y="4074840"/>
            <a:ext cx="8077320" cy="7318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ed by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ing others with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ademy Applications Training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yellow oddball Dave"/>
          <p:cNvPicPr/>
          <p:nvPr/>
        </p:nvPicPr>
        <p:blipFill>
          <a:blip r:embed="rId1"/>
          <a:stretch/>
        </p:blipFill>
        <p:spPr>
          <a:xfrm>
            <a:off x="8150400" y="5864400"/>
            <a:ext cx="847440" cy="847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8"/>
          <p:cNvSpPr/>
          <p:nvPr/>
        </p:nvSpPr>
        <p:spPr>
          <a:xfrm>
            <a:off x="235080" y="4027320"/>
            <a:ext cx="26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s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07800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612468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extro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5412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50216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755028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1086120" y="505944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why we offer training to suit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e know everyone is an individual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Course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word process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spreadsheet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database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oth desktop publish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Shopping Trolley"/>
          <p:cNvPicPr/>
          <p:nvPr/>
        </p:nvPicPr>
        <p:blipFill>
          <a:blip r:embed="rId1"/>
          <a:stretch/>
        </p:blipFill>
        <p:spPr>
          <a:xfrm>
            <a:off x="6781680" y="4572000"/>
            <a:ext cx="1576440" cy="15717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ultiple Course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ffer excellent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focus on the needs of the cli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nly use accredited train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believe in innovative training solu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use flexible learning aimed at the clients nee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hat makes us the market leader?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1920" y="1600200"/>
            <a:ext cx="488016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elegates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Group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Prior bookings/year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Loyalty Schem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Latest specification compu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lat screen monito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ouse mats and keyboard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oot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rthopaedic chai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Computer"/>
          <p:cNvPicPr/>
          <p:nvPr/>
        </p:nvPicPr>
        <p:blipFill>
          <a:blip r:embed="rId1"/>
          <a:stretch/>
        </p:blipFill>
        <p:spPr>
          <a:xfrm>
            <a:off x="6715080" y="2214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Specific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9"/>
          <p:cNvGrpSpPr/>
          <p:nvPr/>
        </p:nvGrpSpPr>
        <p:grpSpPr>
          <a:xfrm>
            <a:off x="6093000" y="3156120"/>
            <a:ext cx="2903400" cy="2423160"/>
            <a:chOff x="6093000" y="3156120"/>
            <a:chExt cx="2903400" cy="2423160"/>
          </a:xfrm>
        </p:grpSpPr>
        <p:sp>
          <p:nvSpPr>
            <p:cNvPr id="318" name="Isosceles Triangle 11"/>
            <p:cNvSpPr/>
            <p:nvPr/>
          </p:nvSpPr>
          <p:spPr>
            <a:xfrm>
              <a:off x="7353360" y="3516480"/>
              <a:ext cx="1576440" cy="1528560"/>
            </a:xfrm>
            <a:prstGeom prst="triangle">
              <a:avLst>
                <a:gd name="adj" fmla="val 50000"/>
              </a:avLst>
            </a:prstGeom>
            <a:solidFill>
              <a:srgbClr val="f0a7b1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Isosceles Triangle 10"/>
            <p:cNvSpPr/>
            <p:nvPr/>
          </p:nvSpPr>
          <p:spPr>
            <a:xfrm>
              <a:off x="6215040" y="3156120"/>
              <a:ext cx="1927080" cy="1888920"/>
            </a:xfrm>
            <a:prstGeom prst="triangle">
              <a:avLst>
                <a:gd name="adj" fmla="val 50000"/>
              </a:avLst>
            </a:prstGeom>
            <a:solidFill>
              <a:srgbClr val="d9253e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7353360" y="3516480"/>
              <a:ext cx="699840" cy="718920"/>
            </a:xfrm>
            <a:prstGeom prst="ellipse">
              <a:avLst/>
            </a:prstGeom>
            <a:solidFill>
              <a:srgbClr val="ffff00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"/>
            <p:cNvSpPr/>
            <p:nvPr/>
          </p:nvSpPr>
          <p:spPr>
            <a:xfrm>
              <a:off x="6093000" y="5119560"/>
              <a:ext cx="29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Software Ho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271600" y="1581120"/>
            <a:ext cx="4600800" cy="2052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122400" y="3305160"/>
            <a:ext cx="2144520" cy="20653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credit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6"/>
          <p:cNvSpPr/>
          <p:nvPr/>
        </p:nvSpPr>
        <p:spPr>
          <a:xfrm>
            <a:off x="662400" y="178452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have a variety of training room designs to suit any type of training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lowchart: Manual Operation 37"/>
          <p:cNvSpPr/>
          <p:nvPr/>
        </p:nvSpPr>
        <p:spPr>
          <a:xfrm>
            <a:off x="2571840" y="3730680"/>
            <a:ext cx="2979720" cy="398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Manual Operation 38"/>
          <p:cNvSpPr/>
          <p:nvPr/>
        </p:nvSpPr>
        <p:spPr>
          <a:xfrm rot="16200000">
            <a:off x="2047680" y="4266720"/>
            <a:ext cx="163692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Manual Operation 39"/>
          <p:cNvSpPr/>
          <p:nvPr/>
        </p:nvSpPr>
        <p:spPr>
          <a:xfrm flipV="1">
            <a:off x="4438800" y="4266360"/>
            <a:ext cx="163656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604440" y="2325600"/>
            <a:ext cx="1814760" cy="2109960"/>
            <a:chOff x="604440" y="2325600"/>
            <a:chExt cx="1814760" cy="2109960"/>
          </a:xfrm>
        </p:grpSpPr>
        <p:sp>
          <p:nvSpPr>
            <p:cNvPr id="330" name="Rectangle 41"/>
            <p:cNvSpPr/>
            <p:nvPr/>
          </p:nvSpPr>
          <p:spPr>
            <a:xfrm>
              <a:off x="649080" y="2635200"/>
              <a:ext cx="539640" cy="180036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 rot="5400000">
              <a:off x="1537200" y="2292840"/>
              <a:ext cx="539640" cy="122400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Oval 43"/>
            <p:cNvGrpSpPr/>
            <p:nvPr/>
          </p:nvGrpSpPr>
          <p:grpSpPr>
            <a:xfrm>
              <a:off x="1768320" y="3779640"/>
              <a:ext cx="518040" cy="511920"/>
              <a:chOff x="1768320" y="3779640"/>
              <a:chExt cx="518040" cy="511920"/>
            </a:xfrm>
          </p:grpSpPr>
          <p:pic>
            <p:nvPicPr>
              <p:cNvPr id="333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8320" y="3779640"/>
                <a:ext cx="51804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1897920" y="3886200"/>
                <a:ext cx="2606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44"/>
            <p:cNvSpPr/>
            <p:nvPr/>
          </p:nvSpPr>
          <p:spPr>
            <a:xfrm>
              <a:off x="604440" y="23256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5"/>
          <p:cNvGrpSpPr/>
          <p:nvPr/>
        </p:nvGrpSpPr>
        <p:grpSpPr>
          <a:xfrm>
            <a:off x="5936400" y="2305800"/>
            <a:ext cx="2804760" cy="2536920"/>
            <a:chOff x="5936400" y="2305800"/>
            <a:chExt cx="2804760" cy="2536920"/>
          </a:xfrm>
        </p:grpSpPr>
        <p:sp>
          <p:nvSpPr>
            <p:cNvPr id="337" name="Rectangle 46"/>
            <p:cNvSpPr/>
            <p:nvPr/>
          </p:nvSpPr>
          <p:spPr>
            <a:xfrm rot="7506000">
              <a:off x="6901200" y="218592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 rot="7506000">
              <a:off x="805284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 rot="7506000">
              <a:off x="6613920" y="2603880"/>
              <a:ext cx="290520" cy="112392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9"/>
            <p:cNvSpPr/>
            <p:nvPr/>
          </p:nvSpPr>
          <p:spPr>
            <a:xfrm rot="7506000">
              <a:off x="7763760" y="3432240"/>
              <a:ext cx="29196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0"/>
            <p:cNvSpPr/>
            <p:nvPr/>
          </p:nvSpPr>
          <p:spPr>
            <a:xfrm rot="7506000">
              <a:off x="633348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1"/>
            <p:cNvSpPr/>
            <p:nvPr/>
          </p:nvSpPr>
          <p:spPr>
            <a:xfrm rot="7506000">
              <a:off x="7485120" y="383976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52"/>
            <p:cNvSpPr/>
            <p:nvPr/>
          </p:nvSpPr>
          <p:spPr>
            <a:xfrm rot="2083800">
              <a:off x="7470720" y="27223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Oval 53"/>
            <p:cNvGrpSpPr/>
            <p:nvPr/>
          </p:nvGrpSpPr>
          <p:grpSpPr>
            <a:xfrm>
              <a:off x="6485760" y="4110120"/>
              <a:ext cx="633600" cy="609480"/>
              <a:chOff x="6485760" y="4110120"/>
              <a:chExt cx="633600" cy="609480"/>
            </a:xfrm>
          </p:grpSpPr>
          <p:pic>
            <p:nvPicPr>
              <p:cNvPr id="345" name="Oval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5760" y="4110120"/>
                <a:ext cx="6336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1799400">
                <a:off x="6666480" y="4295520"/>
                <a:ext cx="2390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Oval 54"/>
          <p:cNvGrpSpPr/>
          <p:nvPr/>
        </p:nvGrpSpPr>
        <p:grpSpPr>
          <a:xfrm>
            <a:off x="3797280" y="4316400"/>
            <a:ext cx="519120" cy="511200"/>
            <a:chOff x="3797280" y="4316400"/>
            <a:chExt cx="519120" cy="511200"/>
          </a:xfrm>
        </p:grpSpPr>
        <p:pic>
          <p:nvPicPr>
            <p:cNvPr id="348" name="Oval 54" descr=""/>
            <p:cNvPicPr/>
            <p:nvPr/>
          </p:nvPicPr>
          <p:blipFill>
            <a:blip r:embed="rId3"/>
            <a:stretch/>
          </p:blipFill>
          <p:spPr>
            <a:xfrm>
              <a:off x="3797280" y="43164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930480" y="4421160"/>
              <a:ext cx="260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55"/>
          <p:cNvSpPr/>
          <p:nvPr/>
        </p:nvSpPr>
        <p:spPr>
          <a:xfrm>
            <a:off x="3825360" y="33433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01929"/>
                </a:solidFill>
                <a:latin typeface="Arial"/>
              </a:rPr>
              <a:t>Sty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Desig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cademy Values"/>
          <p:cNvPicPr/>
          <p:nvPr/>
        </p:nvPicPr>
        <p:blipFill>
          <a:blip r:embed="rId1"/>
          <a:stretch/>
        </p:blipFill>
        <p:spPr>
          <a:xfrm>
            <a:off x="1711440" y="2438280"/>
            <a:ext cx="5248080" cy="22669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1547640" y="19908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pired by IT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Inspiring others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ission Statemen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urnover and Trainer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27080" y="1662120"/>
          <a:ext cx="764856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62120"/>
                    <a:ext cx="7648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lowchart: Process 4"/>
          <p:cNvSpPr/>
          <p:nvPr/>
        </p:nvSpPr>
        <p:spPr>
          <a:xfrm>
            <a:off x="357120" y="2857680"/>
            <a:ext cx="2444760" cy="64260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Peter G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Executive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owchart: Process 5"/>
          <p:cNvSpPr/>
          <p:nvPr/>
        </p:nvSpPr>
        <p:spPr>
          <a:xfrm>
            <a:off x="357120" y="42861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Belinda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of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lowchart: Process 10"/>
          <p:cNvSpPr/>
          <p:nvPr/>
        </p:nvSpPr>
        <p:spPr>
          <a:xfrm>
            <a:off x="357120" y="357192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eil Har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lowchart: Process 11"/>
          <p:cNvSpPr/>
          <p:nvPr/>
        </p:nvSpPr>
        <p:spPr>
          <a:xfrm>
            <a:off x="357120" y="50007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icole Sav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or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Senior Staff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Traditional classroom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espoke applications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Oval 11"/>
          <p:cNvSpPr/>
          <p:nvPr/>
        </p:nvSpPr>
        <p:spPr>
          <a:xfrm>
            <a:off x="5587920" y="306072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6883560" y="2895480"/>
            <a:ext cx="1428480" cy="1428840"/>
          </a:xfrm>
          <a:prstGeom prst="ellipse">
            <a:avLst/>
          </a:prstGeom>
          <a:solidFill>
            <a:srgbClr val="f0ad00">
              <a:alpha val="30000"/>
            </a:srgbClr>
          </a:solidFill>
          <a:ln w="3240">
            <a:solidFill>
              <a:srgbClr val="f0ad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3"/>
          <p:cNvSpPr/>
          <p:nvPr/>
        </p:nvSpPr>
        <p:spPr>
          <a:xfrm>
            <a:off x="6373800" y="389556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rved Down Arrow 14"/>
          <p:cNvSpPr/>
          <p:nvPr/>
        </p:nvSpPr>
        <p:spPr>
          <a:xfrm rot="13783200">
            <a:off x="5178240" y="4448880"/>
            <a:ext cx="1282680" cy="8096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360 h 809640"/>
              <a:gd name="textAreaBottom" fmla="*/ 701280 h 80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653" y="0"/>
                </a:lnTo>
                <a:arcTo wR="8244" hR="21600" stAng="-5400000" swAng="3355194"/>
                <a:lnTo>
                  <a:pt x="21338" y="16200"/>
                </a:lnTo>
                <a:lnTo>
                  <a:pt x="18192" y="21600"/>
                </a:lnTo>
                <a:lnTo>
                  <a:pt x="14521" y="16200"/>
                </a:lnTo>
                <a:lnTo>
                  <a:pt x="16225" y="16200"/>
                </a:lnTo>
                <a:arcTo wR="8244" hR="21600" stAng="-2044806" swAng="-3078521"/>
                <a:lnTo>
                  <a:pt x="9948" y="467"/>
                </a:lnTo>
                <a:arcTo wR="8244" hR="21600" stAng="-5676673" swAng="-5123327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76673"/>
                <a:lnTo>
                  <a:pt x="9948" y="467"/>
                </a:lnTo>
                <a:arcTo wR="8244" hR="21600" stAng="-5676673" swAng="-5123327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rved Down Arrow 15"/>
          <p:cNvSpPr/>
          <p:nvPr/>
        </p:nvSpPr>
        <p:spPr>
          <a:xfrm rot="7301400">
            <a:off x="7732800" y="4105800"/>
            <a:ext cx="1283040" cy="808200"/>
          </a:xfrm>
          <a:custGeom>
            <a:avLst/>
            <a:gdLst>
              <a:gd name="textAreaLeft" fmla="*/ 244800 w 1283040"/>
              <a:gd name="textAreaRight" fmla="*/ 937080 w 1283040"/>
              <a:gd name="textAreaTop" fmla="*/ 108000 h 808200"/>
              <a:gd name="textAreaBottom" fmla="*/ 700200 h 80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rved Down Arrow 16"/>
          <p:cNvSpPr/>
          <p:nvPr/>
        </p:nvSpPr>
        <p:spPr>
          <a:xfrm>
            <a:off x="6132600" y="2222640"/>
            <a:ext cx="1282680" cy="8078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000 h 807840"/>
              <a:gd name="textAreaBottom" fmla="*/ 699840 h 807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Method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4:57:01Z</dcterms:created>
  <dc:creator>BCS</dc:creator>
  <dc:description/>
  <dc:language>en-US</dc:language>
  <cp:lastModifiedBy>stbrown</cp:lastModifiedBy>
  <dcterms:modified xsi:type="dcterms:W3CDTF">2009-12-03T15:26:59Z</dcterms:modified>
  <cp:revision>79</cp:revision>
  <dc:subject/>
  <dc:title>Slide 1</dc:title>
</cp:coreProperties>
</file>