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F52-FC9F-439D-9B8F-FC165370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0F0-A796-4D47-B095-F3A5BD4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E0A-0F3A-4CD2-B67A-9499AF18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D12-D390-4E32-8047-76A7A902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462-DB95-4C0D-B5F1-2F97844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436-9125-487C-AD9D-D5EE983E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39E8-377C-409F-BA0F-7CFAE732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2A9-C371-4E4F-AA1D-5D36557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D51-518A-4EC3-A3EF-E555CE06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316-E33D-4FF9-852B-534FA585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E6D-EC4C-4C9B-9FBD-F96136A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C6F-DB47-4399-B117-265AE56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600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72C-141A-4393-B08E-50F9D38A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1:50:21Z</dcterms:created>
  <dc:creator>ECDL Foundation</dc:creator>
  <dc:description/>
  <dc:language>en-US</dc:language>
  <cp:lastModifiedBy>European Computer Driving Licence Foundation Ltd.</cp:lastModifiedBy>
  <dcterms:modified xsi:type="dcterms:W3CDTF">2009-08-25T10:23:07Z</dcterms:modified>
  <cp:revision>3</cp:revision>
  <dc:subject/>
  <dc:title/>
</cp:coreProperties>
</file>