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9B0-841B-4E3C-BAC8-B5122155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BEB7-1FEA-4693-8543-736404E0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88A-D87D-4C8A-9981-D937DF04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FB3-951A-4FDA-9645-C240BD25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0010-7DCA-43CE-8997-1E00F931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4E29-9323-4BB8-9CAB-37139F6F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375-14C4-4643-938A-818BD050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2B49-40C9-4572-9015-CACACEEA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BF6-165A-4EC7-BB46-FEC7DD22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6747-941B-446E-8185-049A4D56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D06C-6ADA-4463-B664-648A4FBA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DE6-C506-463F-A90A-F4349D2E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7164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6000" y="6244920"/>
            <a:ext cx="144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D4C7-53D4-4B01-A5DA-37FB0AED4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175520" y="6400800"/>
            <a:ext cx="1593720" cy="374760"/>
            <a:chOff x="7175520" y="6400800"/>
            <a:chExt cx="1593720" cy="374760"/>
          </a:xfrm>
        </p:grpSpPr>
        <p:sp>
          <p:nvSpPr>
            <p:cNvPr id="6" name=""/>
            <p:cNvSpPr/>
            <p:nvPr/>
          </p:nvSpPr>
          <p:spPr>
            <a:xfrm>
              <a:off x="7175520" y="6407280"/>
              <a:ext cx="11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ff0000"/>
                  </a:solidFill>
                  <a:latin typeface="Times New Roman"/>
                </a:rPr>
                <a:t>Avalona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05920" y="6519960"/>
              <a:ext cx="180720" cy="15084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85280" y="6515280"/>
              <a:ext cx="18396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33000" y="6400800"/>
              <a:ext cx="18252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1:50:21Z</dcterms:created>
  <dc:creator>ECDL Foundation</dc:creator>
  <dc:description/>
  <dc:language>en-US</dc:language>
  <cp:lastModifiedBy>European Computer Driving Licence Foundation Ltd.</cp:lastModifiedBy>
  <dcterms:modified xsi:type="dcterms:W3CDTF">2009-08-25T10:23:07Z</dcterms:modified>
  <cp:revision>3</cp:revision>
  <dc:subject/>
  <dc:title/>
</cp:coreProperties>
</file>