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2E2-E125-4FA6-9065-6A758555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509-3669-40B1-9763-CCB09124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95C-AB11-4A3D-8E0A-F2796C2E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C51-1206-4FB1-B781-78B8B83C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47F-916B-4BB7-9D18-A7012D6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A60-704D-46C1-B1A5-0E7491EE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66D-252A-4DF4-96DB-D73D3197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798-0687-4249-BBCE-7084A38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4E2-5D44-4F20-88D3-D2FDEC6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2C6-DC28-4543-8A3D-9454F837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8E1-DDDD-4A18-AA36-3F74BAC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34F-00AA-43EF-812F-E4C14FA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ADA-79A2-4844-8FFD-01EDB7DC4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e trees sold nowadays are made up from two quite separate parts, which together form the complet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ut apple image."/>
          <p:cNvPicPr/>
          <p:nvPr/>
        </p:nvPicPr>
        <p:blipFill>
          <a:blip r:embed="rId1"/>
          <a:stretch/>
        </p:blipFill>
        <p:spPr>
          <a:xfrm>
            <a:off x="7451640" y="4869000"/>
            <a:ext cx="14461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3:38:45Z</dcterms:created>
  <dc:creator>European Computer Driving Licence Foundation Ltd.</dc:creator>
  <dc:description/>
  <dc:language>en-US</dc:language>
  <cp:lastModifiedBy>ECDL Foundation</cp:lastModifiedBy>
  <dcterms:modified xsi:type="dcterms:W3CDTF">2008-06-03T17:14:33Z</dcterms:modified>
  <cp:revision>6</cp:revision>
  <dc:subject/>
  <dc:title>Slide 1</dc:title>
</cp:coreProperties>
</file>