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F874-0E25-4CE3-B591-67CFFEEA3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6F26-A846-438D-B945-B734C753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98D3-9D3A-4304-A62E-2EC3D73A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879B-4B64-400F-8C9B-6FAEC0AF7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24A2-CFB2-4C60-8D67-BDA6A6B6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4F94-B047-486A-961D-A03CC8F9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3F57-746E-4920-919B-4DF0EBA6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DEF8-748C-410D-8543-2B02FE65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7AAA-8C4D-4AA7-87F0-96B825F2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6709-8B73-4AE1-A0C3-6D341E6B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1C87-19E1-43EF-BE77-4A279B92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86E5-8570-44E8-9811-94DB2551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F8F0-36E3-473B-83D0-FEA365FC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1771-9D0A-412C-B23D-7FBEF95C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F829-1158-436F-A721-C917F640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C25C-1968-4408-A5A7-E46904852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0391-073D-41B2-A0A8-D3D5C42D2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E53F-2710-4CDE-8FA9-99C2F323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C426-B60B-407B-A058-837D8B25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8434-F9DC-4800-82FA-65DED451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CDC6-ED00-4120-8F9F-5EDC668B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A0FA-3EDD-4C2A-87DA-0C2613B6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7553-F936-4599-B1D7-CA3B6FF1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1DF9-6189-4855-9B15-70D2287A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DE3E-1F7F-420B-A4D5-26A49436C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1D95-08AB-45CA-8AFF-45931AB54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The Apples of our Is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king with App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e Nutr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es reduce cholesterol and aids di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es are virtually fat 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es are rich in Potass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es have 8-14% natural frut s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e Marketing 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31640" y="1916280"/>
            <a:ext cx="8208360" cy="4132080"/>
            <a:chOff x="431640" y="1916280"/>
            <a:chExt cx="8208360" cy="4132080"/>
          </a:xfrm>
        </p:grpSpPr>
        <p:cxnSp>
          <p:nvCxnSpPr>
            <p:cNvPr id="84" name="_s4110"/>
            <p:cNvCxnSpPr>
              <a:stCxn id="85" idx="0"/>
              <a:endCxn id="86" idx="2"/>
            </p:cNvCxnSpPr>
            <p:nvPr/>
          </p:nvCxnSpPr>
          <p:spPr>
            <a:xfrm flipV="1" rot="16200000">
              <a:off x="5558760" y="2544840"/>
              <a:ext cx="826920" cy="2873520"/>
            </a:xfrm>
            <a:prstGeom prst="bentConnector3">
              <a:avLst>
                <a:gd name="adj1" fmla="val 138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4109"/>
            <p:cNvCxnSpPr>
              <a:stCxn id="88" idx="0"/>
              <a:endCxn id="86" idx="2"/>
            </p:cNvCxnSpPr>
            <p:nvPr/>
          </p:nvCxnSpPr>
          <p:spPr>
            <a:xfrm flipV="1">
              <a:off x="4536000" y="3568320"/>
              <a:ext cx="3600" cy="826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4108"/>
            <p:cNvCxnSpPr>
              <a:stCxn id="90" idx="0"/>
              <a:endCxn id="86" idx="2"/>
            </p:cNvCxnSpPr>
            <p:nvPr/>
          </p:nvCxnSpPr>
          <p:spPr>
            <a:xfrm flipH="1" flipV="1" rot="5400000">
              <a:off x="2685960" y="2545200"/>
              <a:ext cx="826920" cy="2873520"/>
            </a:xfrm>
            <a:prstGeom prst="bentConnector3">
              <a:avLst>
                <a:gd name="adj1" fmla="val 138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6" name="_s4104"/>
            <p:cNvSpPr/>
            <p:nvPr/>
          </p:nvSpPr>
          <p:spPr>
            <a:xfrm>
              <a:off x="3304440" y="1916280"/>
              <a:ext cx="2462400" cy="1652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en Grah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hie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4105"/>
            <p:cNvSpPr/>
            <p:nvPr/>
          </p:nvSpPr>
          <p:spPr>
            <a:xfrm>
              <a:off x="431640" y="4395600"/>
              <a:ext cx="2462400" cy="1652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Hannah Ston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arketing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4106"/>
            <p:cNvSpPr/>
            <p:nvPr/>
          </p:nvSpPr>
          <p:spPr>
            <a:xfrm>
              <a:off x="3304440" y="4395600"/>
              <a:ext cx="2462400" cy="1652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Ella William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4107"/>
            <p:cNvSpPr/>
            <p:nvPr/>
          </p:nvSpPr>
          <p:spPr>
            <a:xfrm>
              <a:off x="6177600" y="4395600"/>
              <a:ext cx="2462400" cy="1652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John Brown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Financ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e Varie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47280" y="1599840"/>
            <a:ext cx="713916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NS EVERL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INGTON PIP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UTY OF K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ENHEIM O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YGATE PEAR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'ARCY 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XTON'S FORT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een Ap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Known as </a:t>
            </a:r>
            <a:r>
              <a:rPr b="1" lang="en-IE" sz="3200" spc="-1" strike="noStrike">
                <a:solidFill>
                  <a:srgbClr val="808080"/>
                </a:solidFill>
                <a:latin typeface="Arial"/>
              </a:rPr>
              <a:t>Granny 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Originated in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Green and grey apple image"/>
          <p:cNvPicPr/>
          <p:nvPr/>
        </p:nvPicPr>
        <p:blipFill>
          <a:blip r:embed="rId1"/>
          <a:stretch/>
        </p:blipFill>
        <p:spPr>
          <a:xfrm>
            <a:off x="5724360" y="2492280"/>
            <a:ext cx="19130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apple a d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eps the doctor a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580000" y="5229360"/>
            <a:ext cx="1932120" cy="1079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Green Ap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104240" y="5373720"/>
            <a:ext cx="1931760" cy="1079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84720" y="5373720"/>
            <a:ext cx="1931760" cy="1079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Buying Ap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reee from blemi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nbroken 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i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ri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60840" y="1916280"/>
            <a:ext cx="3024360" cy="3889080"/>
          </a:xfrm>
          <a:custGeom>
            <a:avLst/>
            <a:gdLst>
              <a:gd name="textAreaLeft" fmla="*/ 405000 w 3024360"/>
              <a:gd name="textAreaRight" fmla="*/ 2619360 w 3024360"/>
              <a:gd name="textAreaTop" fmla="*/ 680400 h 3889080"/>
              <a:gd name="textAreaBottom" fmla="*/ 2819520 h 38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Check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bu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pple Production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urrent Production 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21:35:22Z</dcterms:created>
  <dc:creator>European Computer Driving Licence Foundation Ltd.</dc:creator>
  <dc:description/>
  <dc:language>en-US</dc:language>
  <cp:lastModifiedBy>stbrown</cp:lastModifiedBy>
  <dcterms:modified xsi:type="dcterms:W3CDTF">2009-07-28T15:53:21Z</dcterms:modified>
  <cp:revision>54</cp:revision>
  <dc:subject/>
  <dc:title>THE APPLES OF OUR ISLES</dc:title>
</cp:coreProperties>
</file>