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574-26C4-4BC0-95E5-A05F64E5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935-6604-4423-A5E8-E679C7C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AF3-9DFC-4788-9033-1B253A98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5A1-41C9-4AD0-93BA-3E978D99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BF7-F7F9-4FC4-92E7-820771F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3CA-DB4E-44E8-91D1-E6F06674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4B9-7889-4D7A-B66C-ED48FC6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21E-EB48-4E6D-AF1A-B8FE5675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797-BADA-4765-98A9-42FB05D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684-11A0-4C10-84B1-C0197098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0FD-13B4-4759-861F-7F2F667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33A-B2F7-4678-960D-820766E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AB2-FCCA-4EF0-8B3C-5513DF79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ECDL Foundation</cp:lastModifiedBy>
  <dcterms:modified xsi:type="dcterms:W3CDTF">2008-05-28T13:25:35Z</dcterms:modified>
  <cp:revision>3</cp:revision>
  <dc:subject/>
  <dc:title>Apple Varieties</dc:title>
</cp:coreProperties>
</file>